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CA5-9C64-4D5F-BC03-057DE3DCA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6B81-BA05-4E95-9878-5AF5E64E9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57B60-C307-43DA-BD55-49462812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AA717-9AAB-4C1C-B005-DD8F8B4A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74AD0-16FE-44A0-A7F4-68B6FE14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0F7AB-0EF0-4406-823F-BC19FFFF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25C39-2937-43A7-AA20-67451A51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A35EA-BCE1-4AFA-A473-9919DC68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1C096-7B06-43BD-900A-6DE67EAF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E43C9-3C3F-4A4A-BD0B-4E7EB660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9E473-BBED-4E2B-BF05-54984231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2B1A9-7F3A-489C-9505-C6873CBB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3C374-2B56-443D-ACBC-8480D6A1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17381-0ADE-4C06-9661-40E6B82E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EBEDF-FBE6-4C89-A61D-D9E38406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8D9D4-FFFC-4CA0-A26B-C3DF833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9CFD4-9E74-404E-80B2-6995AD89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BED40-7F60-4649-A7FF-944AF74C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52F7A-FC95-4A23-9839-B1B71B7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ACCD9-CD6D-4476-B98C-520D0063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15887-2C2F-4506-A0C5-C723391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F48F7-D11C-4FDD-A6E9-4C75AE4E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EEDEB-A198-4BDC-9A51-2A96DDE7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ADD31-10A6-4247-B1E4-D6619C05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8F297-8612-461C-B864-9943EF2A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3C5EF-ADE3-4B4F-B876-9E41191B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B6826-34E8-4A0C-9E22-6523B8E1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115AD-1C5F-43F4-9A60-C8C8FED1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F92D2-C5DA-4D17-BB3D-94E90756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B4F75-E484-4DE4-BA4F-42A16826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B1959-40A1-4DAC-A970-E1560AE6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4685E-945F-48D4-9FE6-39F9BDD8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9E6-41A2-47D6-BD36-D4BED684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21FA8-37C6-4DCC-B266-BC435A9B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047AD-4D81-44CF-B418-3D108A38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6C0C5-5FCC-4EA6-A8ED-003BC315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C9310-1508-458D-916B-1F075FB7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C7262-343E-4E9B-981F-9EC6B87B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33499-FC33-406C-A63B-92005194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182CB-59A5-40EB-95D5-200D5611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AC12B-6695-4968-B924-4CAC56F8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709A6-9770-4104-AA5C-9344C3D2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FBE25-8B09-423F-AEDB-B7060F95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25B-38FA-4F07-A050-1A275814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92810-34ED-4C82-BADC-13F22B34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E0536-0DAC-400A-8E80-EDC694A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60F6C-346A-4748-AFC7-17A557E0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ED264-0998-4666-8DE6-E9C2B088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BA293-71C8-4C6D-9FC6-CF4F67EA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2D1F8-C0CE-4DF0-BACC-E399EC00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CCE5F-DADE-49CF-AD8F-FC88B4FA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3C17F-9119-4E72-91A5-91D32BA1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845EA-EB59-4283-AF96-9FA4A727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DDD6F-E196-4128-AADD-01CFB961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2E3-3D68-47F5-9900-C06FB7C4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D165E-9A43-4418-B73B-C0D5D694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39F35-A75C-4A23-9359-0EAEE20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6F6C6-CBFC-47C6-B7E3-048EA404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1DE02-0AA4-4C4B-AA3F-D263F7E9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39320-734E-494D-8F95-2B700A83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07FBE-7946-42CA-B125-C7C7400A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D5646-88DE-4440-B329-B144700E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3F904-43AD-481B-A398-783BBE39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123D6-EC7D-41F1-B551-2741A77A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B80A7-AA98-4E39-BDE6-2A3D1E91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FB3-521E-4E11-8536-0F052DCD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EF80D-E8B9-435B-821B-9E09E578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705AB-7C5E-4663-98BF-212339C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F2B42-9B11-4108-A64A-08E97C45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BEBBA-6F00-4D12-9CB7-8673F100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BCC34-C48A-4A56-8F0B-57B1B08F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5A4E3-29F7-461C-BA20-F9DDE173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3F2D2-3A0D-495C-AACE-C05BDBCD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13AC4-C24A-4A62-9BDE-2E556E9D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052FE-DF45-4457-9E30-120A086A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C695F-A7F4-4FD8-974F-7BC97F22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0ED-0B24-4CEA-906D-F3D8164D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14907-DD07-41ED-8C5A-706EFF8C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55F1F-B088-432F-B7F4-C988E05E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492ED-FB9D-4634-A195-91E4B87C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485B4-CEFA-4540-8634-70B35770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FF9BA-4D6A-40B4-82A3-ED3A824E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AE8E3-BC85-4313-99EC-4358A1E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EC2FA-A4EC-4773-AA5F-7D06E364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EC8D5-AF45-4352-9A23-624D122B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F5772-13BA-40DB-A50E-7E30174F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C53D2-CC91-4791-83EF-CF64C669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DB5-BE74-4627-A0B0-E837FBAF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2F817-1358-4B61-B21A-8001ADFF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43C-44FA-4D0C-98AD-7BA4343E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59E-5A36-44A5-BC35-41228220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8D8-38D6-48C2-B528-D52D2F3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C97-3275-4B57-A71C-94C10BD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97B-7EB7-40AC-BC22-1B1F5591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EE4-0870-4FB9-BB22-EC137412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19A6-73AB-4FAF-AB88-9AB25256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8F30-AA1B-4A7C-B195-A432400F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CF19-B6C9-435F-A6B6-0BCD315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4E78-4EBB-483B-BFD1-97FC2ECE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AD3E-C731-48C0-A36D-DE9BCE81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C523-410D-4641-B34E-9B3A707A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AAC2-B39B-474A-9918-3AD753B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36CB-2D67-4F72-B2CD-70C60EAC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623F-1F6F-4907-A0D4-EE70FC0D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3921-A401-4E62-AA6E-8F08938F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A4AD-4016-477D-BC2A-B4DE84F5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D2A1-755E-4886-8D32-BF779099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63AB-4701-487C-8C91-2C1D834F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71CA-E963-4400-8ECA-C96AAA1E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24A19-9FF4-4916-9DDA-590C9B8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33C8-83D8-48EC-BEDF-F42B7817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2F47-90D6-4B6D-9499-1A63878C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B486-3AF9-46E7-947F-A187878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3B45-E709-4331-8506-D0685460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3E80-CF5F-44E6-8633-1EDA2DD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BDAF-9977-415E-BEA6-D79B9CB5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CB35-6DAE-48FC-BF29-BCD5D34F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6FF5-E387-4605-AA91-7E898C8A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2123-C9DD-4215-AC83-1ED3C907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9636A-ABF3-4928-A007-925180BD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1C25-ADBF-4E1B-93B5-5791E33B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7F43-8372-4749-8BA4-2D33F3BF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DC509-0552-4603-8DB5-67E606FD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15C7-19D9-4B96-B50E-B139E97A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86EA-5962-48AF-8A26-3E462C56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7A7E-AD11-4150-A0BB-3082FCE8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D98FE-C83A-413B-8888-18753357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9A73-EB8E-4326-BF7C-3D639986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C6638-6211-459E-8127-95EC47EC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CC5B7-27F9-4247-A2DD-8B0D113B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5302-4626-471F-8B5B-C9E840E8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1D07B-D85D-4F4F-9948-3B4C0A2A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BA871-F313-4133-957F-ED015289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A7CEA-4D1E-4ABC-9F55-1D08B79E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68DA9-9522-405C-8728-2C729746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5071C-B4DB-46FE-BA41-1E02C31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A3109-4138-4E44-A274-E6532EFD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ED14E-7994-4FBC-856C-0F12ADA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11B0-5472-415F-99A6-5EB8BAA7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63569-BC16-47F7-BD39-0422599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5BB7A-E57B-489C-8250-A06986A9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5D2A8-2894-4BFB-BDAC-85AB4058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33FEF-4A81-40B4-BE51-9F8E90AD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A0411-68A3-457B-A9AF-1A60767F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CFA10-2061-42C6-A66A-60243007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F3AF5-033B-4C2A-BF5D-B0F8C8BB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99A7-8C69-437F-AC4C-6E0CFC52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4AF91-39FA-46B7-9553-ED0E213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21E29-F32A-4225-8E46-21AC4D3C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01EA1-985A-4DA1-B367-418777E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0C76A-D8F2-401C-A27F-9E958026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3B039-B271-41C6-9B7D-274428A4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15358-9ED5-4D3A-B8AC-D044BB97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05E98-0DB3-4F67-8921-11C81796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96F5C-EF58-4F49-90AF-5E508DC5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D1AB-8ADA-45D8-844F-1B61936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6FE03-841F-4BB8-B936-B6682A49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41E6C-F380-4C01-AA52-B25D822A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41115-5BF4-4E53-98C6-7010465C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091BF-F912-4003-B2C4-5B8AFC4F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C8CF-1F5C-473A-8CEE-C2C11FA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EAD27-A3AA-48B3-9BB6-DD0FB964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09758-523F-4A60-A4F9-F441FC8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1B5FE-7AF5-425F-A0E6-05209489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B0AF1-C0A8-411E-8053-E4F427EF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6ECFB-6A18-4DE8-AA5D-1D40102B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588AE-EB1F-4327-B323-989F9F84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EDAD1-0DEC-4E88-94EA-61654111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B490F-E6D0-4944-BDC7-518A4403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33451-7EA1-4BA4-9FF8-5CCAF138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5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3FB5-ED6F-4106-822B-0EA30C0096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39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A746-F65D-42E5-9A6A-6FD50B286A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3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09D7-0B64-4C3A-8749-92E14E0D2E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7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B16D-EE7B-4EAF-9226-7956AEB8DB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F272-1AD9-4778-96DD-7AA985BC03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615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ECE6-5A07-445F-9FC0-D000D2621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3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D34-D3D3-4C6C-AE85-496A3C4528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7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4977-BC85-476B-8CE6-46FDA35DCC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3394-FAF4-4F79-85B6-ABB67B75F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5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05A8-22F1-432F-A4D9-85EC376C09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19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8291-640F-45B4-83D9-6A8CE27807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3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3CC0-CB5A-4ACB-88F2-4BDB9499C6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7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8C86-350C-4C8A-8472-8FF27ABE09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AF82-0C77-48F9-A59A-0C3D605258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80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86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1:37:15Z</dcterms:modified>
  <cp:revision>48</cp:revision>
  <dc:subject/>
  <dc:title>Diapozitivul 1</dc:title>
</cp:coreProperties>
</file>