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85964-F348-4F76-A7E8-C62EE81B8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9167A-13D6-4444-A4F3-694B2E0E72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D966EC-6C65-4283-9057-8AC00714A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41848D-C74D-47DC-ACF9-A1C6EC8BE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55105E-71E9-44F4-AB6E-5AE4FF29E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18559F-BFE7-48EA-A029-A6F63766D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0DA501-A6FC-4B97-85B7-86659AA9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0C851C-09DA-419A-967D-C8D6E8403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3179F5-4C67-4910-B141-1EE06A33D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0F709C-DA5A-4788-9337-55A5FB229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918BAE-57E5-4BC2-9B0D-B0654BC5BD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9F7D42-F9D1-432F-A01E-1AC6702DC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023DB0-388C-45AC-BC06-2EB9249D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FE5C5D-6BF5-4CCF-8A5E-8CBF79BA8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3C2232-2669-41F5-8C50-902596F10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555C28-8D0F-4B67-B495-DD02434EA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2887414-A181-40E3-B24C-75A0B9985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E24039-6C5E-466A-AFBA-91B1287BB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F8EFC2-6B23-496E-9C9C-0A4F11431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A74D87B-119E-42A0-906C-5C152C65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74087A3-7A7D-4946-9A5F-907037B19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AB8243-7DA3-4B74-BB6D-7C0FDF4176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51408D-3B34-410C-8859-7C8DCD73C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7C60BE1-5E33-4CAF-9234-DEEE59113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186D4-3830-4B68-B987-C68FFEF30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800F7-7A28-459F-94F3-FE9105844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77E5D0-FC3A-43AF-8859-EE9BBFE9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A579EA-BC99-43FE-BBA7-596050A60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F9294E-4AA0-476E-B360-CD2AF5EF0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FE74F8C-2BE2-4331-9E6D-C733BFC5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CBE0CD-559B-4004-8263-2E8B0A803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86DA75-24C0-4BEA-8F3A-3215622B2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85F75-37C0-412C-9D4F-37EB13984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078DB-6AB7-4F0A-BC62-3D3AA3E15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E05F75-93A3-4A47-8B90-1CE05E0373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F06C41-6C48-43D6-A8B3-9AE125B94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D46032-3EA8-4C18-91E1-D2C210A7B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895436-BC52-4891-96B1-D16D9679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1C58EAF-6D83-4EA6-BEF0-EA404806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4B9D2-5D62-4C8D-937F-58913FBA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044FD6-88E0-4873-B960-F0260CB92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D10FA2-5E6C-4E31-9A25-515E09A49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394006-4CA6-4EA2-B9DF-0BA7F6A6C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FB720-9EAB-4B18-8BC3-0497FCC4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266F57-7111-4F41-B768-B5785C58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4C1668-2171-44EC-84DD-125A5305F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474A-3653-46D6-A000-CC0518C69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24D814-44B9-4C57-927E-EEF836336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4CE91-D468-4248-8FB8-0C170AA6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16AD01-83A2-4493-ABC3-D70C6203C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D488F3-3E1B-4B8A-A0B1-36A589358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6AEF22-1FC8-4838-B29C-B10436FF3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0F6CCD-D044-4F7E-8943-33446CE76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F07EF3-BEFE-4550-9746-6B31A2F71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EE6B-591F-4EA1-858E-22BF4B628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467551-2F2E-41A5-AE6D-A418E19C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9DB026-7509-41F9-9D13-60FF97089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B9AB7C-533E-431D-A02E-72B74A7CBE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B6C299-926D-4CC4-9D72-7768F60BA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66C439-973B-4CE4-805C-D97D3BDEC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B5F810-95B9-4EF9-8268-3F0358886E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5DEB34-44D8-49EA-B27F-58FACB73B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7ADC9E-BB27-4232-A5E1-4E7A2BCF2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E9B70A3-0072-4EBE-98FA-89997D34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000A62-1009-4804-B9BA-9A91CF4B0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6BC6-EBD0-4043-8FB9-4FCF246832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AA14BA-A887-45B3-9989-86ECC231C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820319-23CB-449D-B8D6-B74A63977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CCC2ED-F6C4-41FB-BD3C-2134475FA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FDF095-6DF3-4D87-BD08-BF48921FB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3294F63-A6DC-41E4-B7FA-8468BB2F2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A6CE44F-3E06-4F34-B979-D6414E1DE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F514D8-890E-4762-B4ED-F5CD72FD8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E20086-C116-449C-ADA5-0ED7AE70B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7090B-0946-4295-BD02-C1A9422FC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3445C-6F31-4AFA-B932-A6DCD7694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8DFED-6B53-40EF-A855-8B081AA06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C66F2-6374-407B-90B7-317F612F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1FA-E837-45B9-B306-B95264812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6CB3-352C-4A59-829A-52C966B6B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F1F-2089-464B-A557-19093959E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B8F1-11B4-4B61-A1E7-2889A39C7C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567B2-D689-4D6B-B37D-5BE123431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E06A1-D35A-459B-A2F4-EEC929B6F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534DA-CF8E-4FDF-88F2-3C70116DA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8E3F4-2925-40CD-A7E1-516B6B3F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E1AFA-E114-4D50-97BA-AED83368A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F98C-4294-4328-ADB0-C9A2C0A93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20ED8-7D47-4954-A292-9C93BE3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9F7F6-7558-47C8-8EA8-59D6115C3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7F4A2-755A-4A3D-AF82-C5294BB5F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67695-85BA-4C47-9411-81C761B86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DA28E-CC2F-4CC1-9C0A-486631A4D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C131E-9461-4878-A665-067688AA4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E7208-7209-48DF-869A-9000CFFAA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059FDA-880D-4E78-B758-7DD76B2E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41E5CF-2C0E-46E4-83D6-DB6705B7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54E06B-9671-4861-90F5-AED4BBCF7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4AA0C2-F742-42F2-B454-B6CED32A1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322B2-D869-449B-85F5-72D930FDF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0424A8-B2B7-49B1-B9C6-CD15F7485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51E358-E676-45C3-8AD2-EEC63429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E6DBE8-87F8-4227-AA86-F7C4FF081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C6108-6C83-400E-95C3-E806A25C5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3377F-BD31-4E28-B15F-DD2B72D6E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BF286-9CEF-4517-A6CD-DBE16A17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8DF1C-AED2-4249-A993-0FC7F4242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1A135-99C0-40FA-A2DF-CD308558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3D8B20-7DD4-4F1F-9E51-582B1EB36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0BCBC-5ECE-4458-946A-88C16E0BF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8E0EE7-7A86-4622-91FE-F787799E0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2A0A4D-F82A-44AC-9180-B61A39F4C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DE6FBA-EAB7-45A5-8AD9-963F8FDA9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B5E1C5-A0B5-4D2D-88D6-76EA201C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C0F246-F3D6-47B0-82A7-90D8270F6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0ABC35-ECD4-4917-9922-78CCA8604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88AB1-B3FF-446E-9E2F-45800A23E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E757ED-FF85-4B24-B771-4B9F11ECD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B2E3C-0AB8-4E6B-83C4-6624D1437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7E07A4-F923-4DDA-A1BF-9DEA5779F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C5D136-E73E-40A6-8119-C4B5FEA67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22856B-F6C6-4FC0-A48B-4C212FDD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38FDE3-9F24-4B42-AD52-FAC6E3527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336D8A-9836-45DD-9B1B-CFF305C3D0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A79801-F84A-4BFF-9076-0F7F32214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E56348-59A7-4FBF-8395-DF7418E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C0329-BE16-4B07-8DE2-6A69AB5D3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6121BE-ADD6-42B4-AF5D-E2766A15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57587-23E8-4E5C-8E6F-1BB4607DB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79DFD8-BEE1-44E9-B301-533A59BCD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31D1E4-0D7B-4DDB-9A82-F2451C34B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EFEE33-D1E2-4F29-9062-A42A9E7CB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9E9367-A131-43C9-B9F5-38B83422B7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AD9BA5-46E8-4F21-BF8D-FF0C115F0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6F3330-4B2E-482C-8F66-0AF4EE286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E3387C-8DA7-404C-8A8A-E22A0F900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58876D-E07C-4B2E-B12E-5C6C07052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3694AB-CEFA-4455-B4EB-9E68D239E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5247D9-7F73-462B-BD9B-F9A42A630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736F37-B7DC-4B34-9F55-0BBA4AE98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37A79D-74F9-4AD1-80DC-F3BD4DC5B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995D17-57EA-4615-AE9F-31140E82B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3EAF9-3986-4AD9-9FBE-221B44B8C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125B9-3051-4839-8BEC-4C649EF27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1F610C-6E11-4E6F-8ADB-2B6253403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10B29A-854C-4C2A-9FC4-C0169A366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D937E4-46CB-4066-8C18-F7856F2F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F40B0F-EE08-416E-8AAE-0185C134F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931895-3B4C-4487-B8E5-7C20926D8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FC6DD-25E1-4165-A77E-59BCDD4CF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4EE27-5BCC-4F54-A626-AD8A6C7C3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FE5C1A-C04F-47EA-9B61-05936B15E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CA549B-8095-4AB4-BD5B-F86754914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B144DF-83F0-4E32-A590-E2B37E66E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3A736F-5C83-4489-BD58-EE7DD8D03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CC07D9-8FC3-47B3-A8AB-C51A35DE9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40F63-81C5-474A-8083-48E4C46C1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424946-6EFB-4C68-8E50-8FE4E4770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4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5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1352D-1259-4990-989F-560F12AC757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8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BD98B-C5D8-4CBA-A9EB-E43E4F702A4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1999D-942F-4D94-9741-6A649362F6D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EC616-9428-44A4-86D4-302CC1231C51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12945-5BBC-4B94-8986-E05F014C5E5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381C2-C7C6-4D08-B960-88F14C879D4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7B3C3-1B98-413E-A318-BFD1C19546F0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39EAE-FEB9-424A-B0E3-1B454F3E8E2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71D97-BE25-433C-A584-D42912D29EF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3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A616E-99FE-4E2F-915D-780226EA305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6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053E3-86A7-4AC6-816D-F45A621A760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9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DB881-588C-4F00-8072-C26B43C162C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2" name="CasetăText 8"/>
          <p:cNvSpPr/>
          <p:nvPr/>
        </p:nvSpPr>
        <p:spPr>
          <a:xfrm>
            <a:off x="3886200" y="6248520"/>
            <a:ext cx="274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Centrul de Studii Europe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D36CB-9C1F-4BCA-9535-C623DB9C6C9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1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22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28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3-04T06:20:44Z</dcterms:modified>
  <cp:revision>54</cp:revision>
  <dc:subject/>
  <dc:title>Diapozitivul 1</dc:title>
</cp:coreProperties>
</file>