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2E95-142D-4CF3-9E69-B3478D09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D15F-B783-42C4-8CB0-9417C5EB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09A73-A7F2-4449-9A6B-1F027BBF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F2BBF-C621-452F-A441-EF4277A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BAF14-3FC7-4C39-9F34-751D88E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18FB-8398-453A-A72B-044417F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80F3D-50D2-427D-AE07-79FDDCA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8F17A-74C9-4139-AA20-B10D9CD3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7B1DB-18C3-4AAC-9E32-84645568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4363D-A509-4C3C-973C-163191EC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CD0E1-D245-473D-BAC5-A9EF08E3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22FD1-8C28-402C-9960-C5548132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05AF2-92B6-402B-B0E2-F22F99C4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9F4AC-CACB-4728-964D-4B7AD88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36BD2-0445-4AEE-A83B-A3B8B1C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1BD4-854C-41B8-B7E5-A0F453D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D98D3-E833-4F13-A800-4D4F551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6C62A-CE74-45CD-BED3-A35CC92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1081E-29F3-4434-B480-284CE80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4AB97-A2F0-49C8-BC83-BB49930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6C38E-8305-494E-9B00-9B186BEC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ECE2-CA77-49E2-BEA9-39B9A940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1157B-7357-48B1-973C-C43B06FD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E9936-2281-41C3-9A7D-0B5A4500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6F3DD-818A-4E7D-8D95-4D67E158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A7557-BB60-4EEA-A323-D9B5B62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6647D-A4B4-4C45-A7D4-9D50332F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8C569-7B6F-4695-9762-BEFA851B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9A872-888F-44F7-B3D5-210732E1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59F0D-50AE-4DB9-94B7-F10FFDB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723FF-B692-4592-A842-2D0BA6B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EE09F-69A9-4363-B564-59C6431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7D4-0527-4F8E-A6BD-B5220244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F041-0031-43E7-8E39-79D25FC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3FA48-AD6A-4919-B161-2940A9EC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194DB-2C7F-4D6B-8FCA-A9B3C556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201F-E902-4F07-AE73-7156D7BD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2AB54-AFA2-4397-912C-919D54B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9DBDC-A659-4008-96FC-840D591B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1A57B-BED4-486D-8C63-7DA2DE3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A41A5-0D95-4502-A775-C7DF87C9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47855-D0EA-45D2-9917-C37F4A53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5ABF6-2536-437A-A431-5B4E84A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BB0-E81A-41F4-AAFA-35C5C33C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3DBB-C3B5-4BE2-9C66-A671F27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3CDF4-D4DA-4007-893D-2F5BD04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942D-3318-4D7B-A4F2-E8942196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1351-8DE8-4E10-8584-A074C7E4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ACA7F-5D69-4671-9D28-6D5849BD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3044C-CB49-42D5-827C-C8C51860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1D597-309C-4EDF-A137-CE14557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D4A0E-A756-4850-9AE7-A5050316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094E6-D96B-4A0C-B807-F3E74568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C757F-95E3-4A65-889F-0F7A8C3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66D-F3BD-48E1-94D6-83FF961B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88D6A-FD08-44F6-9BF6-726ED05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C93AC-4B45-4068-9D2D-C6B7401D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2ED4D-ECA0-41BE-997B-61FE084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1ED58-34C1-46F7-9F8A-CC425A3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ED67F-E823-47A8-BCBE-C54C6A66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0CE02-5495-47CE-A2E3-389CB6F3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16B03-477C-4B9E-9229-2CC7BC5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DF98E-4A4D-417B-AF3B-FF2CA39B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FAFA5-60CF-4E21-96ED-A839DF9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DD155-5EC5-4BB4-8AF5-03E705C6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BF4-A28B-4198-8980-2245980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7ACC4-9135-4E40-B7D8-A5D5041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779C-55F7-4A7C-A147-E1378FF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36507-B22D-405B-9415-D5BD990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88687-35BF-4CEF-B6CB-F2B313A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92D06-BB21-439E-B46C-56AB195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7D3BC-9C56-46F7-A27A-72B74EB8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CF733-5A0C-4327-A31C-F1AF3CA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E439D-0337-4FC5-A075-C8491DBE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3C958-3A26-46BB-8276-0958176F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52C-B954-47FD-B561-0DE5D2D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A65-B261-415A-98E6-6A3D2A32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6A1-5F62-49A8-926C-AFE65F9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D1E-4D1E-4895-A48F-3997B8F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D4F-1116-4D48-9A5E-92CB5BB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743-3652-4083-B8AA-571A2D5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06D-6EE4-4314-9C48-48455C94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9AC-6198-4B1C-A94C-33D14EC8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B09C-C0E2-46B5-B658-D3C7CA58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1BF-8357-4373-AEEF-2036B75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5E8-6207-41B2-8B53-B3C2055E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996A-DDF2-422D-AA9B-0CBB3B9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6CE-E11F-4380-A9C5-3A52DC4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15AA-6456-4214-B64B-17DDC65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5D18-8E04-4DEB-A9DE-1E40D4F8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639-E8E4-4275-9D27-DF831D54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CF29-C295-483C-B095-7298D8E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D561-0995-4589-8732-106BE03C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A3D4-CBB1-481F-8CEB-746EA5B6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FE29-D80B-4B13-ACC0-11E8FE56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0E07-4BB5-4615-B48A-28DE067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A5AB-90ED-4129-B6DF-0A98B5D1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5D59-7DB9-4DCA-9C07-19AFD55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7E09-5335-417C-8D7F-F099113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26D3-76E1-4916-8B12-BF2AA526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1CEB-799A-4D51-960E-86CB8BD4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9C37-2E77-4672-8876-2F152C8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843ED-B43C-46C1-8069-7A0FC45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E838-1A71-473A-B936-8DA37C0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67E4-88DB-4EEF-AEDB-7873D15D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AD85-58AC-4AA7-990C-1462C8EC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7CE8-E2B1-4AA4-B34F-CC2220CC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DF37-D086-49E8-8835-75EE22BB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2F84-8C2B-448F-87F7-DCB3AC5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65E5-9FB7-408A-9F2A-B83AC2B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DF9FB-CA6B-4520-93D8-A9C8DD4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8759-CB9E-4CDA-B85F-1152942A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1A7E-9E58-4D4C-9323-6672EDC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F9E5-666C-4EA2-A0A2-51C3BF4F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5575-FB37-432A-9D42-B4FEDB3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62C0-81EC-4F94-9CC7-493E0306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0639-EE6A-4A40-96C7-F370A465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8AB1-6760-43CF-9FA5-4845F502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B65B-39A8-4330-B160-2E6D0E43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F0837-037D-4F1C-84D1-EEEFFF5C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5F3F-E2C7-460B-B112-C0E78C5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90D8F-BFF3-4ECD-9DAE-D0A9199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E00EC-6DBE-44A1-87B9-C047AD76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CA24-E7D8-4783-A22B-988FB067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9CDF-17B4-49EB-9A15-E3D32EB2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B8A2-7A63-44C2-90B5-04669F2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4398-4E34-4639-AEF3-25D9C9A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941B-D1B2-4B66-A4EF-B0CE3E6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C4885-BCCD-4D3D-AAB6-060984C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1F5A-6761-468F-A9AB-261B3782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0965-E745-427F-B7C3-0AE270E2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66953-F635-42B3-B146-41AEF5FA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B460-16E0-48C9-9AE2-99BFB787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30A7B-6FEF-45DA-AAFE-787FF893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9ED6-7635-4EAF-B699-14856F3C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17DF2-63D7-43E1-BBC6-3BA5778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9095-336B-47C1-BA18-DB89EE9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C32A-6FFB-47E5-92C1-4C46D9D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814F-1312-4C44-87FC-0344C05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DA56-A0B5-48C0-91DF-97F0B6C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29E7-039B-48FD-9563-4501B074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73C4-6FAF-44EC-92E3-E93B442A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330F7-CA9D-4DDD-A7E4-76BE8240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B4CB2-4695-4AF2-AA16-8181DBF8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534CA-5BB1-449C-88B9-4C0015AA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B871-4631-46DF-9D22-F5B4851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6AD5A-E9FD-4D7E-8809-64BC429F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8027-0A06-412E-96F0-55C3AD0F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17683-372C-4763-9A9D-7C6F9749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C7A2-7784-4792-99B2-B43B5F1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67BE-78D3-44EB-8091-183A10E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BB37-94E8-4D91-B247-DA679AC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0065E-C2B3-45A9-9241-D0A31BCB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749F-F39D-4AB6-B59E-8859BC67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9ADC6-9317-494C-BFE1-3A2D33EF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F9C50-9067-4568-94A9-8438D1F3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F394-769E-4DBD-A9E7-F88529B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16FB1-69CD-43C1-9434-55F53171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6EC-38B1-4123-BCE0-4C68AC8B37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D685-FC3F-4F4D-8F5E-372D4A1263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F052-2102-46BA-A63B-961C15168C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AC62-A8AB-4AFF-A097-6EDC8EDCC6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A48-BACB-4226-BE28-50147203F3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83D5-0F7E-465E-916E-D00B5C5B29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751-4230-4818-B60A-25C547E458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FB9C-0DBC-4433-B0B7-CEAC25722B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B40-92E3-44ED-BB55-C4CC6CF17C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611B-7CF7-49EC-9426-4BFA002338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286-F954-42BE-8C50-B70FD652FC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AD1E-F0F6-4F8D-AA68-E26BED374B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E466-8966-486A-933E-EA61C02F25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42:53Z</dcterms:modified>
  <cp:revision>49</cp:revision>
  <dc:subject/>
  <dc:title>Diapozitivul 1</dc:title>
</cp:coreProperties>
</file>