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C23E-FBBF-4F40-9904-1073AEB3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D45-7AFD-4F5A-A2CD-C3A8AA04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D978-3242-4180-BD21-C521AC6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0C60A-AC4B-4A9A-AC92-AA73315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3587-7279-4065-B126-917679B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82834-FF6F-48DA-ADBC-35C01B1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C8553-3E39-4F41-A2AE-D1D92FE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1B3A4-E08B-40AB-9363-D2A4930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31E1A-CFE5-4930-9D56-0855E4D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62AD-3469-44F2-85F7-4F0976AF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F4BA-CD89-4829-8807-10F6C533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F6A1-2516-41E4-A6BE-0012AED2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3C9CC-CCC6-4638-8A36-1B9967A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8A40A-9F54-4AC2-B3DE-1B9DD81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33A07-18A2-418D-A839-749C2819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502DC-07E0-4BD8-80E3-AC7D9CA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08EA4-0DB5-425D-8A4E-863CEF99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69DE-956C-46A6-9F14-BD77E70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B97D-E07F-457A-B9B4-7A57130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D90B7-B282-4D3D-8599-3C3D72E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B47BA-C2DE-42D1-B949-54FE7DA8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79DB9-66E8-474E-9B06-7A430B13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D9BE3-DFFD-41A8-B336-732B86B2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29B79-79D7-4619-8FE1-79E21473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1D0B8-D7BB-4DF4-895C-FF0023DB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5147-9A0B-4C46-83DD-CDC2BFB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03F7-9292-4E0F-B8EA-EB194BC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D2570-011C-4B86-B0A6-7A105067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FF428-DA58-4B53-92D9-C563ADD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02EA2-491C-4FDD-9AE5-C88BCDB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650C5-585C-4F79-AF1C-BCD9C64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28612-1B4D-4322-8AE5-F408B1D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4B4-B923-4BEC-9B59-07912287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71B17-02A0-4097-AD22-7B80DF7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EB43-3305-4E8D-8692-F8CFBF35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2F67F-4580-48D7-B534-D6680E2F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BE84-A7AC-4D22-BF2C-6CF73C82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10B97-F6BD-4CD9-85C0-C3FED526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025BB-F65D-41FD-BE23-CDC3896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0130D-4E3A-43D5-808B-DC73142C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D621A-B07F-487F-8AFD-ED861EAA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5C40A-5BC3-441F-9B9D-49EC5DB3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6F825-460F-4A7E-AA1B-5F6B6C3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869-5A1F-4CA9-A195-55B5655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A252-E1AD-4BB2-8F97-A09A923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3F07-2CD1-4FBF-9D68-52ECD3DE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3F51-C3F4-4229-831F-0E8FEBE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63806-61FC-42C6-B905-6DD5453E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A8E68-9048-45BF-8252-AEB16F1E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BCE3D-326E-4657-B627-234F59BF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90F05-13E2-49B9-9C20-911FE10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B7BE-8FB1-4306-BDB4-BB8E72D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C1A6-2D0F-4A7E-9D5F-23A2DB9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D6894-8898-4A7D-B7C9-D34944D0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32F-EDBB-40E7-94FF-8B097061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0DD46-A666-4F5E-86FA-7FCB080B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80278-594A-42DE-A845-E4B992E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766AF-9D1C-4990-90EE-9EDC15FB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D9E8-AECF-4D7B-8D55-49568F22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73AFD-00B9-4D4C-AC9A-73D87151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F2A0A-3DB5-4C38-AB66-98109434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5E7F8-725A-48C2-8654-6764B93F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F6115-69BE-421D-85E9-C525E74A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B9C58-C7A1-4584-804C-189DA37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AF1DC-C3CC-440B-B1C1-EE4A3682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23C-8111-4C0E-BD62-10B85CEA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50071-7E99-46E7-84D7-3B1E33CD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DE8E8-6C2A-48E8-9D59-9F4824C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76ABA-6867-448E-B539-4BCCE50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9F951-4042-4CD1-8913-A736F6E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A84BB-1329-46F9-85F2-672FDAC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DC1FE-9C0E-4AEC-90EC-D1E1BA8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20397-796A-450B-847A-13974E08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73568-CD65-41D0-9E50-39132232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DE854-1AE0-4137-A96A-C469646D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07B-3A6E-4F43-9679-73C347C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EAE-72FC-47F2-83E7-A722368F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00E-3885-4606-97DB-44D4982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F11-136C-4A74-B957-0723FD5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495-FBFF-491A-A869-2630C5E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876-4DCA-4819-AA44-81D8CEA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308-FCC7-4BB6-8C74-E7CBBABE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D4B-13D2-4638-B831-A9AB25D9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D44E-597F-4BD4-977A-D41BD21A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C2B5-CE11-4E24-98AB-67FE741F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3DE0-84FD-407B-B547-92EA805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17A-2B1F-4A70-A660-9DC5846B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8A78-197C-4E80-93B2-23FE280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FEB0-35E7-4A2E-B775-80A47CD0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3DD-44AF-4FD2-8219-D9B560E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547-B894-41F6-B7F8-743956F6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562E-4F2F-4301-8BB7-C4F5913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3C18-307F-4D64-89AD-4B54088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9A0-FB45-482B-87D1-BAB9D419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A5A0-2F9D-4FEA-B1E1-772F0AE3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4E15-B056-4CD7-8978-26504EA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4D9D-F56E-4688-8319-EA4EFF8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96C0-BDE5-419A-8B5A-A66A90C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8ACA-06F0-4697-A0B3-9C9F32B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F9DE-F74F-4020-AD44-5C1550A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122-90B4-4BA9-8D30-9192C6BC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7785-01D3-43D2-8474-6396985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6150-7F2E-4B7D-ABDE-5A5F1A4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B840-E8D0-4869-B225-B843987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8C5A-D566-4E4F-B4B7-C611038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A714-2665-4054-BBCD-E2FE8183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51CE-7D30-4D7A-B967-4669503E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6E11-D4E5-4F1C-9410-1D1F759C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7BB8-0E74-42E2-BDA0-CF2A4EC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BD44-B5A4-4E90-921C-F81FE420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3153-8242-4FC5-9B4C-CFBAEC9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6965-D40F-4862-9627-F91C81E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F503-7DB5-4A70-B871-9AB8CA8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5B94-8240-4B88-9A3D-65E0B72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F850-0212-4AEB-87A7-28FFBB0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23FF-7DF2-47A8-A714-A19BDA3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DCC3-6385-4283-8252-2C428CB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4B88-3B13-4CC7-8DD3-E7578FBD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2E66-CBDC-48BB-BEC6-F493BD7B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88AC-A895-4ECE-B642-30052698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2929-052E-4245-A8B2-338527AC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778E-1DD9-4F0D-8085-79E50F4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7DCE9-2BA4-478C-858A-47343FD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CFC2-68B8-4838-91F7-35B0FF92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749F-6A56-4657-ADB0-811F8B9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24AC-F8EB-46CF-8DDF-56513B2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7FB8-711C-4366-8EF5-ADF7782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8812-F16E-4C6D-90F8-0083A89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56E1-0422-44D7-91DA-115BE80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F12F-7CCB-4718-8809-4D062D4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556D-423A-4EDD-BEE1-A84CF8C0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7D271-6BC0-4BB8-948A-05BA73A7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F218B-95F6-4C2A-9DD0-2757AD2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1087-DD0F-449A-9DA5-DADBA69C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12777-267B-40D2-8B2A-27850B1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3137-117E-4635-AC9F-E680BF5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37B8-92CB-4A21-BC2E-D123FA6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9AA6-CFCD-4DBA-BF79-9455AF3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963D-ED70-4D60-BB2D-1C74970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22078-A6D2-4568-9715-3583ADD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04DB2-1FF0-4FEE-A658-01D2CD1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74F0B-6DAB-4DC2-B044-567DFF81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B1F8-610A-4791-AFB6-F83B086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B551-F982-4557-B45D-FF860D5F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A856-A9E8-4C34-AE8A-0CF8A92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4436-DC3F-4AEA-92FF-B205D1B0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EF9C0-32DE-4737-B234-2AADA2B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F3F9-7A94-4F28-891E-E0F5433F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3A91-6253-436C-BEA0-1684339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92FF-8F4E-484C-91E2-1639598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72A5-B991-41BE-9D6B-90CD019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FA38-5587-47B8-8D0E-6A3FD78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6A56-51DF-4E31-A51D-A121FEC8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3994D-2BAF-4D56-9AD4-92BB1C68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266C8-54E4-44AB-9A94-0A6EDAE3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7E6D-5E2B-4310-A792-15E5C6AB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EB4AF-1371-4975-9665-EF14D97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A118-0668-4C33-9602-AB12B959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E42D-4112-41D0-A3CB-BA70626515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F4C-BDFE-46AF-83A3-BE45CC18DA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1FD-EF90-4B60-8E1A-FA9A9C5C78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CE9C-FB2D-4D47-A9C9-DA8D0B0E71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E40D-25A8-48EE-ABA6-56289E400F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7228-CC91-4F77-B3EE-F823D7B426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2F4-C2D3-4455-8294-DE5F32177C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733-BC91-4496-9BC1-906F877E1B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85C6-4F02-488F-9E61-62366B3400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FDC-BC06-4462-B45B-77AA75B853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F54-2283-4388-B1A5-A083825510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7E2A-C295-4A61-A460-4E747F7AA0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Dr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drept.png"/>
          <p:cNvPicPr/>
          <p:nvPr/>
        </p:nvPicPr>
        <p:blipFill>
          <a:blip r:embed="rId3"/>
          <a:stretch/>
        </p:blipFill>
        <p:spPr>
          <a:xfrm>
            <a:off x="3505320" y="617220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AAA-154E-4761-8147-85F95EEC38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45:22Z</dcterms:modified>
  <cp:revision>50</cp:revision>
  <dc:subject/>
  <dc:title>Diapozitivul 1</dc:title>
</cp:coreProperties>
</file>