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15A45-C05B-487F-B173-1FC6A92664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Substituent număr diapozitiv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A85F7-89BE-4DFF-B4D0-A4FA884B8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A3073A-F7B6-4405-B93D-47859D6B2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F42DF7-8CEC-47B7-A882-3FA17556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2B0E98-0B42-4AB7-88FF-C647A8CF3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F2A462-20D9-4F3C-B1DD-D9CE0B5E0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5B6CF7-EB02-44D9-A5C6-6162055F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AE24A-1BC3-462D-9A75-772F89A70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71DDC3F-0E6B-461C-89A1-3DB7171E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5095ED-E995-45D8-A3F3-C28682223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060E77-53D7-4E09-9E9F-0AB8467F1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A59BBF-6778-425E-8342-A514AEB68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07626E-BC90-44D0-8633-F439396FF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F0BC75-84EC-4CF0-BF56-63D60691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2BDCC9-0F29-4247-94B1-79EE429BF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6013EB-A7EA-4625-B9B8-9E6656B7F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D002BA-77E4-4488-BDB7-6893D5916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B424BB-E983-4A23-ADAE-B7EF705C1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1EE5BC-8DA2-4397-A008-D4A0B900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FE13F9-5B9C-4A89-A233-A660BBA9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A45292-C5DA-4286-BE69-FA7677733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14B59C-2636-4742-93FC-97D8570A5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F7A6C2-E605-479C-929F-3C6F19E34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B130E4-FE29-4B47-A6D5-FA0658C59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9DD99A-DD56-4ADE-AD71-31D20935B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99527C-E88C-4F42-A32B-103B6594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0F0993-2CB5-47A4-8355-42DF3A74F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00468E-5726-4C94-87DE-9D483A03A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91E48A-5534-43AB-A35F-9DBBA308E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D9C7C4-0803-407D-A2FD-C0C072E19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30E690-A820-4BA2-A4A3-857A854B8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247E2C-F0A5-4F03-880E-E6F5AE3B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BC25-0C63-4C35-97D8-111CC0F7F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E078030-2A0F-4E7B-846D-87F26D1DE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3D0C6E-8980-4599-8E2F-70D026FAF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9969E9-9F15-4BAE-A2AB-26A5FBB0A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4901F1-890B-4B5D-94F0-3E5B22B9B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FF635B-3ED0-4086-B890-455B8EEDB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775600-A608-4301-B0A6-425C97E9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812FB8-2194-4575-A6C8-83540593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B2B5CF-2ED9-4D52-81DC-45FBA60E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8D4EE-0438-4AD6-8218-8609A5564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995FFE-BB5C-400F-8507-3CB6BC7C5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AD480-316A-47A4-B4A3-B1F04DBFE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CEDA7D-7C2D-41CD-B70C-F5B955EE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D03F1E-70A3-45A2-9FFB-DFB1A2FA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3D1247-B9B1-4A95-959D-72A8DE66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9AAF51-67C6-4005-BE17-E6A407D26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CDDD46-ABD8-42C1-AEF1-3C0922E5B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41CA5D8-71CD-4F1A-8A98-F5C9D2E5D0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884E69A-0EC6-4A89-9242-3573DC4DC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184B65-3C7B-4D4E-B266-69FDCE94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4D3BE0-32F2-4212-B871-C6DAD20E4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EB6BA2-D828-42AE-824A-E41F0C426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FAC5-739D-4EBE-B56C-3D593A56E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AF05D6-F233-43BD-84B1-18443357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88FA8F-986E-4706-BE77-402CB1A1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3952E6-573A-482E-8E4B-738B9E982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0CD43F3-9FB3-4905-BDAA-13131EFBF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032FA1-E3F2-45CF-9773-9F8A5E819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DE0BE62-8CE2-41D9-8D1D-5A3DDFA23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675B7D-5237-4A95-83C2-13D70D455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83B4D1-5699-47B6-B92F-F4F87595A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037D32-7952-4E74-B57B-1B13235ED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C3222C-9921-4BFC-9EA4-66900D25A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B081-749D-483E-8B8B-E595FE9E9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27F8B8-8ABB-4153-B50F-FD0D44501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A97DDF-6F89-405F-B83D-3D1FAD75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CB3F17-8705-4613-80D8-ED4326BAF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904F6B-400E-43A1-841A-0E53B597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017EE3-FD0D-4F68-AF1B-F0E2A1471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F475AB-8FF9-44C8-867A-5BFEEA09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8977A2-3BAB-4449-8CC0-1B15FBC4D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5E86FC-DB8E-4C4D-A0E0-2F2C684CB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074C6A-0800-40C3-A7D6-2549ACAB5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A3E75-8413-4DEB-90ED-5D6CA9CF8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059F-F9C4-48F4-80FD-974E2D869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EB17-2438-4495-920D-7B361EB88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6F4D-4301-452F-91A5-D50B13F4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8168-89F4-47C9-AC5C-C9C1DB63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A6C88-7055-4E76-B25B-9B44AFCA8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C21A-82AC-4FD9-88AC-902189CFB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89EF-77DF-4512-82F5-788174687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B2576-E5B6-4272-980E-AF90E36DE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9C749-FA4A-4BBE-9C8A-8654E1EE5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7993-8F88-4315-A51D-1CF518D87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4F5E-02C6-4C88-B387-62D2F574A1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4825E-F2B6-46F9-A479-FEA7A915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AA78F-D4B8-4E5C-AE9F-2879B238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1486-7021-4052-83ED-0D720C6E7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85C4-9776-4C81-A8FA-A2633ADF9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023F-06D8-4FBB-A52B-DCB034783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0D420-36A2-435D-83DF-09A189B3C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4E9F-C9E9-486B-96CB-DF807FBC5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37734-F209-4DAF-B834-DDC653C7D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87584-E8C3-409B-BD84-5ACD865EB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6B14D2-1FEE-44FD-B255-31813EA3A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A2AA70-5EFB-4D41-A12C-0F50B564C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11A9C-9071-4B34-8467-DBD0D24B9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8DBCD-CF56-4F59-9E40-DF5EA9CF1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DB8C5-A0D9-4028-B794-412CFF5C2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B7E8A4-B4F7-4AB4-AAA1-3418F3E7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D2C39F-7989-4151-BB99-741D57711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3CD49E-DB3D-4C14-938A-856A7A993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C883B-3A6B-4C33-9E02-3AF6F6FA7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3B4C3B-A63B-462C-8EEA-50380AD4D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30FE97-FB6F-46D3-AC3B-959D8954E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A5C7F-48A0-44B7-99CB-306BA31303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D7AEBE-766C-4347-9D07-EF44F9FA5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B5A954-5569-42B9-908E-B02D8962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24AE0-D095-4F94-910A-42FF3BE7F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A5F566-07A8-4DF6-B812-C0288C28B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6041C7-0930-46CC-81F7-DAB49CAB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0ADC7B-3B46-4BBC-B8E4-39351F88B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230385-1CB0-45B6-ABA1-FF791357E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7FD3B8-FA4F-4B6C-9AE6-6FB13C00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AA8DBE-1243-4663-B9A4-C976FE36D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C5C765-A1EF-4FF7-8659-36113F022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7D9764-39F2-41BE-A628-ABAA8A1C7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271BCA-38B5-4EC5-9422-23E4FE26CA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91B323-3159-4FFB-B1A7-277C12700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78CD1A-05A3-4DCC-AB48-577D8CBD3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674C57-40EA-417A-B666-2C5F5ED45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CF1512-110B-4088-AF23-9483997A6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EDD64C-6C85-4DAB-BB57-2C559B6E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E887B61-1953-4E98-A65E-74B471ED4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89FFA2-9FA7-4611-B13A-D5C49BF8E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53E506-28C5-4BFB-8EC4-64B4A1F24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3C66A6-8B17-4C7D-BC4D-0E1DD20C9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AF90C3-379A-4D83-A82E-2C696DA5D1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410EC4-8068-440E-9D0B-D0CCF9753E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534A2-CDE9-4670-8849-4A2611F6C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054134-1140-4779-BADA-3B69B79C94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A04891-82DE-435B-B057-7B39FBA8F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81256E-462D-442F-9117-E0D9DAAE2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68296-7E64-45EB-8ADD-52C839E3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514A4-B6CB-4B4A-BD74-7C16888E3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B2F553-935A-44A5-BB95-C0FC994D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27E26A-6AF3-4A1D-AF34-798A82420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A22DE9-86C2-4898-BA6C-FF6B2A96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F3BA71-F0F4-41E7-B00A-54F14801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6D5BB3-C7EC-4AEC-A0A6-53F0BD17B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AAC6CD-B746-4D1D-B662-FC2559997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E7AF75-BEFC-4AED-9CD8-EB1A5A2D6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DA89FD-10B7-494B-84C2-3AC0524F6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37CA67-00CE-4548-907C-AD48F81DA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AB91BA-A07B-4F9D-8BA2-77EF72804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4B670B-29A2-4A95-85D9-C9956E22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2A05F-5008-4381-B86A-DE8D1AE2F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1DDC0B-2731-4D06-9A3A-641F447D4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BD0555-8D27-451F-843D-58997DDD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3D08BB-E050-44ED-B998-11A5F5923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5AC2B3-81F5-42C6-9F2C-A63909FE1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7119EA-C4C5-4DF8-AFCF-EF57FEBE2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332048-EBD8-4C79-92A7-31E5D12F7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66B74-B5BE-4EF6-A3CC-D8B624EFA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730E96-75A1-421C-BB1A-278246E48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4235F6-FDA5-4C95-912B-2A4E826F5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Economi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Administrarea Afaceril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" name="Imagine 7" descr="econom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87440" cy="533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4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Economi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Administrarea Afaceril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5" name="Imagine 7" descr="econom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87440" cy="533520"/>
          </a:xfrm>
          <a:prstGeom prst="rect">
            <a:avLst/>
          </a:prstGeom>
          <a:ln w="0">
            <a:noFill/>
          </a:ln>
        </p:spPr>
      </p:pic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027E1-82AA-4316-B01E-2781FE54B46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7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8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Economi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Administrarea Afaceril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Imagine 7" descr="econom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87440" cy="533520"/>
          </a:xfrm>
          <a:prstGeom prst="rect">
            <a:avLst/>
          </a:prstGeom>
          <a:ln w="0">
            <a:noFill/>
          </a:ln>
        </p:spPr>
      </p:pic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50F6-DB2F-4ED9-9C47-7843680912E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2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Economi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Administrarea Afaceril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3" name="Imagine 7" descr="econom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87440" cy="533520"/>
          </a:xfrm>
          <a:prstGeom prst="rect">
            <a:avLst/>
          </a:prstGeom>
          <a:ln w="0">
            <a:noFill/>
          </a:ln>
        </p:spPr>
      </p:pic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D622-90FC-4145-B955-54282A44DC1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6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Economi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Administrarea Afaceril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7" name="Imagine 7" descr="econom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87440" cy="53352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7612E-611F-4E65-95F2-16B866832E8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0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Economi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Administrarea Afaceril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1" name="Imagine 7" descr="econom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87440" cy="533520"/>
          </a:xfrm>
          <a:prstGeom prst="rect">
            <a:avLst/>
          </a:prstGeom>
          <a:ln w="0">
            <a:noFill/>
          </a:ln>
        </p:spPr>
      </p:pic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78DF0-A28B-4441-9516-C11DAD011F4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Economi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Administrarea Afaceril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Imagine 7" descr="econom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87440" cy="5335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7D1AD-5A37-477B-BEBF-2139A6F50D8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Economi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Administrarea Afaceril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Imagine 7" descr="econom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87440" cy="5335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9A56E-67E8-4645-A1B2-FA88C172ADF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Economi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Administrarea Afaceril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Imagine 7" descr="econom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87440" cy="5335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9AA53-845C-413B-9D89-8EC889ADDC4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4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Economi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Administrarea Afaceril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Imagine 7" descr="econom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87440" cy="5335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E06F-74E1-4E6F-9510-20429E86453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7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8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Economi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Administrarea Afaceril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Imagine 7" descr="econom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87440" cy="5335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EBD6F-5704-412F-B9BF-B07412AE4377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2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Economi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Administrarea Afaceril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Imagine 7" descr="econom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87440" cy="53352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17C2D-5C82-499F-AB72-2A7E54A24B83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6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Economi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Administrarea Afaceril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7" name="Imagine 7" descr="econom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87440" cy="533520"/>
          </a:xfrm>
          <a:prstGeom prst="rect">
            <a:avLst/>
          </a:prstGeom>
          <a:ln w="0">
            <a:noFill/>
          </a:ln>
        </p:spPr>
      </p:pic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9A2A4-5D0B-4EDD-BE02-1A53FA438A4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Imagine 9" descr="fundal_cortine_nou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0" name="CasetăText 8"/>
          <p:cNvSpPr/>
          <p:nvPr/>
        </p:nvSpPr>
        <p:spPr>
          <a:xfrm>
            <a:off x="3962520" y="609588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c354e"/>
                </a:solidFill>
                <a:latin typeface="Trebuchet MS"/>
              </a:rPr>
              <a:t>Facultatea de Economie </a:t>
            </a:r>
            <a:r>
              <a:rPr b="0" lang="ro-RO" sz="1600" spc="-1" strike="noStrike">
                <a:solidFill>
                  <a:srgbClr val="0c354e"/>
                </a:solidFill>
                <a:latin typeface="Trebuchet MS"/>
              </a:rPr>
              <a:t>şi Administrarea Afacerilo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1" name="Imagine 7" descr="economie.png"/>
          <p:cNvPicPr/>
          <p:nvPr/>
        </p:nvPicPr>
        <p:blipFill>
          <a:blip r:embed="rId3"/>
          <a:stretch/>
        </p:blipFill>
        <p:spPr>
          <a:xfrm>
            <a:off x="3429000" y="6172200"/>
            <a:ext cx="487440" cy="533520"/>
          </a:xfrm>
          <a:prstGeom prst="rect">
            <a:avLst/>
          </a:prstGeom>
          <a:ln w="0">
            <a:noFill/>
          </a:ln>
        </p:spPr>
      </p:pic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C8BAC-FF79-46DF-8AB9-43304377197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85800" y="2438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Titlul prezent</a:t>
            </a:r>
            <a:r>
              <a:rPr b="0" lang="ro-RO" sz="4400" spc="-1" strike="noStrike">
                <a:solidFill>
                  <a:srgbClr val="4e4b49"/>
                </a:solidFill>
                <a:latin typeface="Georgia"/>
              </a:rPr>
              <a:t>ăr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380880" y="228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Tipul evenimentului 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                       </a:t>
            </a: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(alte informa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ţii opţional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Conector drept 4"/>
          <p:cNvSpPr/>
          <p:nvPr/>
        </p:nvSpPr>
        <p:spPr>
          <a:xfrm>
            <a:off x="0" y="1447920"/>
            <a:ext cx="609588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Conector drept 6"/>
          <p:cNvSpPr/>
          <p:nvPr/>
        </p:nvSpPr>
        <p:spPr>
          <a:xfrm>
            <a:off x="6095880" y="1447920"/>
            <a:ext cx="304812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2057400" y="2666520"/>
            <a:ext cx="54864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Titlul sec</a:t>
            </a:r>
            <a:r>
              <a:rPr b="0" lang="ro-RO" sz="4400" spc="-1" strike="noStrike">
                <a:solidFill>
                  <a:srgbClr val="4e4b49"/>
                </a:solidFill>
                <a:latin typeface="Georgia"/>
              </a:rPr>
              <a:t>ţi</a:t>
            </a:r>
            <a:r>
              <a:rPr b="0" lang="en-US" sz="4400" spc="-1" strike="noStrike">
                <a:solidFill>
                  <a:srgbClr val="4e4b49"/>
                </a:solidFill>
                <a:latin typeface="Georgia"/>
              </a:rPr>
              <a:t>un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Conector drept 4"/>
          <p:cNvSpPr/>
          <p:nvPr/>
        </p:nvSpPr>
        <p:spPr>
          <a:xfrm>
            <a:off x="0" y="1066680"/>
            <a:ext cx="426708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 type="title"/>
          </p:nvPr>
        </p:nvSpPr>
        <p:spPr>
          <a:xfrm>
            <a:off x="380520" y="457200"/>
            <a:ext cx="670572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Titlul prezent</a:t>
            </a: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ării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Conector drept 6"/>
          <p:cNvSpPr/>
          <p:nvPr/>
        </p:nvSpPr>
        <p:spPr>
          <a:xfrm>
            <a:off x="4267080" y="1066680"/>
            <a:ext cx="487692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ntroduce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ţi t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ex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Titlul secţiu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ubTitle"/>
          </p:nvPr>
        </p:nvSpPr>
        <p:spPr>
          <a:xfrm>
            <a:off x="457200" y="1676160"/>
            <a:ext cx="495288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ntroduce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ţi t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ext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4e4b4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 </a:t>
            </a: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text 4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3200" spc="-1" strike="noStrike">
                <a:solidFill>
                  <a:srgbClr val="0c354e"/>
                </a:solidFill>
                <a:latin typeface="Georgia"/>
              </a:rPr>
              <a:t>Titlul secţiun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5" name="Imagine 13" descr="blank page.png"/>
          <p:cNvPicPr/>
          <p:nvPr/>
        </p:nvPicPr>
        <p:blipFill>
          <a:blip r:embed="rId1"/>
          <a:stretch/>
        </p:blipFill>
        <p:spPr>
          <a:xfrm>
            <a:off x="5462640" y="1427040"/>
            <a:ext cx="2998800" cy="3473640"/>
          </a:xfrm>
          <a:prstGeom prst="rect">
            <a:avLst/>
          </a:prstGeom>
          <a:ln w="0">
            <a:noFill/>
          </a:ln>
        </p:spPr>
      </p:pic>
      <p:sp>
        <p:nvSpPr>
          <p:cNvPr id="636" name="CasetăText 11"/>
          <p:cNvSpPr/>
          <p:nvPr/>
        </p:nvSpPr>
        <p:spPr>
          <a:xfrm>
            <a:off x="5821200" y="2782800"/>
            <a:ext cx="2286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000" spc="-1" strike="noStrike">
                <a:solidFill>
                  <a:srgbClr val="4e4b49"/>
                </a:solidFill>
                <a:latin typeface="Georgia"/>
              </a:rPr>
              <a:t>Introduceţi </a:t>
            </a:r>
            <a:r>
              <a:rPr b="0" lang="en-US" sz="2000" spc="-1" strike="noStrike">
                <a:solidFill>
                  <a:srgbClr val="4e4b49"/>
                </a:solidFill>
                <a:latin typeface="Georgia"/>
              </a:rPr>
              <a:t>ima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Conector drept 4"/>
          <p:cNvSpPr/>
          <p:nvPr/>
        </p:nvSpPr>
        <p:spPr>
          <a:xfrm>
            <a:off x="0" y="1066680"/>
            <a:ext cx="4343400" cy="0"/>
          </a:xfrm>
          <a:prstGeom prst="line">
            <a:avLst/>
          </a:prstGeom>
          <a:ln w="7632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4114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c354e"/>
                </a:solidFill>
                <a:latin typeface="Georgia"/>
              </a:rPr>
              <a:t>Denumire imag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Conector drept 6"/>
          <p:cNvSpPr/>
          <p:nvPr/>
        </p:nvSpPr>
        <p:spPr>
          <a:xfrm>
            <a:off x="4343400" y="1066680"/>
            <a:ext cx="4800600" cy="0"/>
          </a:xfrm>
          <a:prstGeom prst="line">
            <a:avLst/>
          </a:prstGeom>
          <a:ln w="9360">
            <a:solidFill>
              <a:srgbClr val="4e4b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Imagine 8" descr="blank page lata.gif"/>
          <p:cNvPicPr/>
          <p:nvPr/>
        </p:nvPicPr>
        <p:blipFill>
          <a:blip r:embed="rId1"/>
          <a:stretch/>
        </p:blipFill>
        <p:spPr>
          <a:xfrm>
            <a:off x="1109520" y="1219320"/>
            <a:ext cx="6864480" cy="4041720"/>
          </a:xfrm>
          <a:prstGeom prst="rect">
            <a:avLst/>
          </a:prstGeom>
          <a:ln w="0">
            <a:noFill/>
          </a:ln>
        </p:spPr>
      </p:pic>
      <p:sp>
        <p:nvSpPr>
          <p:cNvPr id="642" name="CasetăText 6"/>
          <p:cNvSpPr/>
          <p:nvPr/>
        </p:nvSpPr>
        <p:spPr>
          <a:xfrm>
            <a:off x="1905120" y="2743200"/>
            <a:ext cx="53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4e4b49"/>
                </a:solidFill>
                <a:latin typeface="Georgia"/>
              </a:rPr>
              <a:t>Introduceţi </a:t>
            </a:r>
            <a:r>
              <a:rPr b="0" lang="en-US" sz="2800" spc="-1" strike="noStrike">
                <a:solidFill>
                  <a:srgbClr val="4e4b49"/>
                </a:solidFill>
                <a:latin typeface="Georgia"/>
              </a:rPr>
              <a:t>imag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 type="subTitle"/>
          </p:nvPr>
        </p:nvSpPr>
        <p:spPr>
          <a:xfrm>
            <a:off x="1295280" y="5029200"/>
            <a:ext cx="6477120" cy="38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600" spc="-1" strike="noStrike">
                <a:solidFill>
                  <a:srgbClr val="0c354e"/>
                </a:solidFill>
                <a:latin typeface="Georgia"/>
              </a:rPr>
              <a:t>Sursa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4T08:57:38Z</dcterms:created>
  <dc:creator>User</dc:creator>
  <dc:description/>
  <dc:language>en-US</dc:language>
  <cp:lastModifiedBy>User</cp:lastModifiedBy>
  <dcterms:modified xsi:type="dcterms:W3CDTF">2010-02-04T11:51:57Z</dcterms:modified>
  <cp:revision>49</cp:revision>
  <dc:subject/>
  <dc:title>Diapozitivul 1</dc:title>
</cp:coreProperties>
</file>