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3186-449F-4E1A-AF4E-6B2C96AF2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EBE4-1B98-4315-A4E0-234079B7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777F8-8401-484F-8C2D-B0AE9CE7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98BDC-FEB2-4EFA-881F-727D2110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2D80B-4D80-49FE-9A60-18314368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46A09-EFFF-43BD-AA4D-323C6368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4CF8C-9F2E-4505-A152-3CFAAD95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A1DF-F065-44E7-AC55-958AFF3D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13772-E6C6-48B3-B85C-14AC550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967A1-787A-4041-AEBE-F7682F79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AF466-DA0C-4EB5-8A74-663BB973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F53B7-F80D-4CC5-9552-88424F11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9B34F-2AFA-4DC8-B75F-088BA01E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65EE9-AF87-4943-9629-C4DD6E2A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8700A-1B2C-43BD-9E05-DA6ACBC8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62944-CB12-4B16-92DB-BD90823B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02166-AE31-43E7-9099-55B85302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4FEAC-059E-4218-A646-7B8F449E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667B2-895E-4D46-B0C2-F9BD2CE2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8D2E9-3F7A-4F43-BF3D-ECB30D8D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86BC0-F5EA-4A94-92E9-187694A3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DEACE-D877-4B29-9F47-08292ED5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13A0C-1CF4-4D5F-88E6-D2F2EFE5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07599-1242-4610-B5BE-04B49E77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711E0-1DBF-41DA-B94B-4536C254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B2B71-94A6-4CBD-8448-4A2DAE9D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235B3-C1AB-42C0-9C92-C6DF515D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431C0-BE46-4104-B20D-23A240C4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95CCF-1A0B-4784-9FE7-0E2EDC81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44459-BDC0-41FB-A82C-C9121F31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ACB89-B893-40E3-926A-58C7E69E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D2F10-D220-4635-8579-8E33127D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4F6-0D2C-469B-959D-7F186737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934E4-2717-4496-AFBE-1B21AF88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C07B7-90D6-4B6A-9AC8-78C9F729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91878-E66B-4D2F-B22B-1FA334EA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71396-0E24-4E1B-9AA4-90EED5B2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56F46-BC8E-4797-872D-A3E2C2B9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A79F1-CE1E-407C-9409-FFDA4C37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04026-1638-4CB5-926B-7D26F1EE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FB0A2-4ADA-4861-B6AC-217FCFEE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7091D-CB8A-43C3-BCC9-6DDABC3A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3337F-F3F4-4C77-A0DC-58447F54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62D-DEBB-4380-87CD-BFA04ED6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F65E0-9243-40D9-A3A4-3738DAF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97AF1-E48C-40A4-B53A-271E0FE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618B7-F293-4174-BA33-972B57ED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A8A01-D2D8-44AF-8047-3192C9B4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091CD-2877-4450-A569-35D1925D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707B9-8734-4640-A9A7-17C7297D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A9565-4E4F-4057-94AE-0042F6F3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69C1C-663F-4225-9892-BA8463D6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6B06C-30EF-49CB-B1AA-94EC6D32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117EC-2A7E-4A5E-BD38-7C297E58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CBD-FA16-4D5A-BBA0-7B0D01ED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00CBE-4EE1-4566-B2A6-63FB68F4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33832-42FF-4B3E-A5D7-77639A1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1967B-E2B0-4977-AD92-89B3F73F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43009-55B9-4173-B4C0-BD108E07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DD28C-D06E-46B2-8DF1-7BE903EC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04EBB-0649-433D-A2AD-A57F4A25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0BF6A-7746-4A73-A2AC-608A1D32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60585-837E-4B33-B12E-15B0EFCE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19B73-F4D8-4198-811D-DA5F852E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AF675-0E02-4B1F-A6C5-C459C23F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590-576C-4F25-947A-036A3B06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840FC-A7FB-4CF3-B245-1718FECF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56AA4-5AE1-4DB4-8A45-F7D20406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21078-DC37-4FCE-A1ED-22890C9B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345BC-BC2B-4592-8228-1766E568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90D53-06FD-4826-82A1-9C604C63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F01FF-BDC0-41FE-B572-88D1C99D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DF13C-3214-4951-9B43-3462EF4E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47FD5-CBF6-4F11-85AB-5C27EB76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44929-DBE0-40D8-BECB-C70F53EB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593-58B3-4215-8C73-4BF7A755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5B6-9F16-45B7-B6F5-ABCEBF70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1D7-6B62-4F19-ADE7-8706B8A1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B3C-5A4C-4ED8-99E5-468A4FA2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BAA-E169-4921-A265-5DC0622D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652-A70A-4309-ACA8-166F985A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271-F87B-482A-9C6A-C6D6175D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58A-41FF-4BD5-834D-3403D857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B947-78FA-4BF2-9359-AAE2A0BB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B101-DE5E-43B0-BEAC-5E233335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AD72-D747-45AB-A35A-7F1E8562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FA36-8463-4808-81CE-C82297A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9D9E-DC3C-4027-85B3-98783085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54D0-DBC1-4595-979F-83534E4E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B3A5-A433-4C2B-BB86-6036683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8DC6-ACF6-4CBD-BDE0-7985631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1A25-AD37-4A00-90A6-511E1867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798E-EAB9-40AD-BF0F-CDC6FFF8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6525-A111-4D56-9258-16923EF6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F427-D0F2-4496-A626-E4076FD9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C48E-6B0B-465E-82AE-5856C12B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936F-1A03-4BB1-A950-3C897994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7284-3C7F-4A7A-AD25-91ABBC72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AA19-B3A1-4313-8BA2-F81A0FB6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36C17-B031-410F-992B-C9569487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DBAE-1A09-40C2-B2CD-0529995D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AC46-4D0C-421B-89B1-41AE3FD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5CAC8-5F17-4E74-A8B5-9D4D52FF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53CB-4BEB-4B13-BF88-726B429A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7320-4894-46F1-B0E6-962E21E7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9683-FC83-499A-B3DE-F4C4AFB3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9F5CA-A635-4B96-9BAC-76A7CCA1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896A-8AED-4ABB-A1C1-96859B92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B258-146A-4613-BC7E-C0AC1750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DFBAE-B982-4ABB-99AA-EAD77F0D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75B2-3089-4A6D-9899-19B33C8B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6DEF-7F08-49C4-9603-53F39866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1E521-2DB8-44A3-99A8-49604BE3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2E95-DEB3-414D-A16B-F82BF281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C1B71-D2D5-42A3-A5EF-2A1509AB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B27B1-43CC-405F-94C3-C79A4766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CAD03-04CE-4CB9-AE52-5B89F779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A2F7-DA1B-463E-B96D-B883D7FC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DA424-A90F-43EF-B843-5EDA15B2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C1C07-2694-4EDA-9DD6-F2045353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1F9EE-A73E-4D28-B363-53A69F01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94FA2-8D51-43BB-9C7F-F70EF870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EE827-6A2C-4EDD-BEA0-2DA577E8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2BB14-BA80-4B72-BD5D-5B08E1EC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E346E-EAD0-4F1E-B281-D68FB61E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04DF9-283C-440F-A492-16D4CE1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2249D-96C9-4137-85B5-DEB10E47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304B-0BF4-4087-995B-65C28358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663A5-6B45-43BE-8621-FCF60BE3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0EB3-5A4E-4D68-9DAA-CD3D29E3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C2CA-642A-4AE6-AF07-C8FAA54A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7615B-B098-4C35-AE46-30161A9B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57184-E04E-43E4-A7B5-8AA976D6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EFE85-7654-4307-A589-6916E0D9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69086-C997-4BE3-A321-E20D6D76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59B8E-5A8E-411E-A61C-359209FE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C3BB3-B562-48E1-B5CA-47967297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8FA86-45E1-4533-8CBA-A61CFBF0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B703A-AAD4-4747-9DAB-9178A37F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2CC51-5493-4C4F-8F54-7767C52C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9E8F6-DC16-49B4-997C-4CE0E891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9BACD-252E-46E5-AD84-D9E4EC20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60210-A13D-46A7-9680-EA516A3C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3E8BB-4F34-452C-A13F-D75D0AF7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CE6B3-93EB-493C-95C6-9214DA94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2F6BF-8B3E-455A-A7CE-BCF35CBD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4BD8D-1943-4A49-B8A2-4D407C5B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928D1-1F20-425C-94F8-64416745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519FD-A2E6-40BB-8728-5F611B1F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560F1-C47E-4813-9C6E-C77F5795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C9D36-4268-49AD-8C26-4E2C28DA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15F9D-632C-42ED-BFA7-7978173F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2B997-ED23-462F-A701-225BD9F5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25CE6-1677-4155-BBD9-009886BB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C3246-B1CD-46BF-9184-ACDA1793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C6A16-EFF6-4E0C-BFA2-C0A445F3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53C9B-C9E8-427C-96B6-95BECEDF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04DA5-CF19-48EA-998E-C8857C6C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564E-9A0A-47E3-A552-DEDBD4DC9F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0E7A-4A25-49F7-AE24-7BDDA71561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0C22-5C81-4B6E-809F-BC9880E0AA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B5CD-9645-4A62-83D0-70ABC83026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B3DC-0611-4934-B07E-6CC236A728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B479-D0BF-45C2-9E41-FEEE826C7F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562B-4392-4327-8BF1-91941EDF22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CB44-4FA3-4EAD-A333-58CDCEBB0A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EF59-9CF1-4F70-9658-93E1440D99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88A4-5DA0-41C6-B465-52B0AF2C04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E205-B643-47C8-A625-A6DE3EC4F8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3F49-7F30-4EAE-B455-0BD2A6C60A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ducaţie Fizică şi 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9" descr="educatie_fizica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F2C9-FC42-4FDA-BCE4-67A3161394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1:57:10Z</dcterms:modified>
  <cp:revision>50</cp:revision>
  <dc:subject/>
  <dc:title>Diapozitivul 1</dc:title>
</cp:coreProperties>
</file>