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41C1-2438-4028-B95F-CC4C4DF3A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1DB5-B370-48E7-82AD-1ADABB8B7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082C4-2CD5-4A7C-884A-9F7A8D90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3B1E1-AF57-4435-895B-A069F030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69F7B-CCA2-474D-A5CE-EB5AA603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96846-AA2D-407B-8FF6-C8628DDF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E9D95-C487-452E-B48D-532F3498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4836F-0493-4B64-8B57-AEBB78DD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561DA-D842-4A11-A349-E16579D1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31F2A-97DB-458F-BCBA-220BD152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A43DD-FB40-4259-9A74-9EB2AF65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12697-CA16-4381-A2EA-76BC253C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15732-6C3A-40BC-B11B-1DA0B374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30AF8-A402-41C7-A188-F1ED792F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304BC-8638-423A-8EF8-8FD0931E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C8CC8-7BA1-474B-BAC5-D03039FA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07B71-A4AA-44B2-B88F-2C3EF197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6DD83-4F38-4834-97F7-1347C767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8B815-85B0-44B3-8296-5DCA8AF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044E6-9EC0-4C56-B9B2-73B527BF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3D531-F521-4E7B-BF46-55E91A7B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29BC0-AD07-4CF7-8960-CE2EE098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97465-F250-4882-B261-F909E0B5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22512-AF51-4AC7-AAE1-EBCA9653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5B698-36E3-4CE6-9500-365EF053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6659C-CAB0-481C-B1D5-1F287E47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E112B-ECF9-40D2-8873-3D223626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D0761-D815-4B19-875D-8EE8AC1D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A170D-740B-4305-9559-73BB3A69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589BB-0B48-463A-8240-89D34E50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DC0EE-E6F7-4519-8983-D7C5D13D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A78A9-EFD8-4441-BCBC-86B176D0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EAB-EF57-4A9B-A325-7B34D37B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91B42-053B-4BF1-861A-9C3FF37F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977D3-CB31-4813-BE78-AF6AAEAC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B902D-21B4-4A06-AE2F-030EC8B4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9646C-D8AC-4DBD-8AFE-5E1DB33B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69AFA-6214-4EA6-99E7-A780D960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020BC-7C90-43D2-9BEF-D9F6AD10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D8DF7-904D-4E60-959F-9781AF3B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EF4DA-A11C-487B-A012-24DF9665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21655-BE9F-4089-ACD1-F6356A1B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F785C-BCF6-4148-BA31-D7A1544A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A83-712E-4243-8C62-3017E155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67BCF-9173-4385-8B7D-0BAE4519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32928-A139-4068-9AE6-6DB33D57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9F410-A0D7-4D8E-BC54-D6ADD656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8712A-DFE9-449A-BA0A-96C17037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FDA4F-3618-4365-8800-028DEAA2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86845-256F-46C7-96D3-366C6898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0F1A8-A3C1-40E2-AA51-3914BD57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7D0CC-80BA-4E68-BC5C-BF3711E8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9DAFF-6B0C-4CA8-B931-0ECE635E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9E9A7-4D6E-4343-A7CD-A3B20E82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058-B4C0-4FD6-9AF6-899B9F8E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F5C88-ED20-4717-BFAF-6E4D7540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A5185-1143-4A56-B9E3-30868AE9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B0E22-5FC8-4C25-B825-6B47E72A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76530-2F6C-4303-997D-BA82600D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78643-EC0B-4156-BD33-90DC1F60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6EBF5-DC47-4509-B644-8A5C2DFE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58A98-D18E-4C50-90BB-73BAAE29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69817-D2B9-4F67-ADD3-22D6C10E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E4B55-A545-434F-ADDD-34BD71C5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FCC5A-C330-4FE3-B7C2-6FA40C38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5F5-4594-40FE-BAA3-F80DF011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2DF7F-36DD-4DB6-893B-D740606B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C28AA-9D44-4515-A1C0-A3BC456A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5D4BD-6412-433C-9F6B-33D5CB37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08371-E72D-4B8C-A510-0585C9F4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AB356-7E35-4065-90C8-CF0D85AF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AD486F-1281-42F7-859B-87CB440A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0C5B8-2EF3-416A-8E79-B9F6CC82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76C66-3F53-4B4C-B6C0-D5D2FD80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3D8D6-335F-412C-8564-B5DC1430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360-74DD-4C28-BD96-61DE7E89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AE9-AFB4-4527-9D2E-B198713C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89D-0743-4EF7-8B9E-3B5C2CE8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C64-DBDE-4790-A5E1-ED91717D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976-19D0-40BC-81B3-CAD46D0F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1EE-F845-4A9A-A305-FF105E2F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249-C3A2-43DD-8FC3-8D62B1AF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ABB-4E30-4F52-B326-6956A037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96E3-0947-4ACA-B748-93FEF6B2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A56B-B000-4F1C-9617-59897056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34AF-B3AA-4B8F-A087-77ACB5BB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6558-E1EC-45DA-B3E8-FEE04E87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4505-9FD3-4A95-86DB-FFAD487A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7CB1-68B0-4868-A1F4-322E5F76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8541-6E22-4FB5-85FF-63C99151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5F78-A9B5-46B5-B164-B37EBA79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C5CD-276C-44EE-B114-07EEB49E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26E4-9E12-4CB0-BA3D-113F4A1B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94EC-8967-42EC-8976-CF392479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7379-8A23-4DAC-A5EE-8045F17C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B7080-E1D8-45BB-90EA-B88328F7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0972-9E9E-4860-BBF4-0AF36816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1702D-4131-42BE-8E2E-E5143DEA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9831A-04C9-4FAF-82F6-C0717525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55A4-9022-43A4-B050-78411D77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7E7D3-8C2C-4234-B259-A343C79D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3B9DA-74FC-4305-B9C4-F6D54424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AA889-09F4-49D4-9596-7FB619A0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D389A-5398-44C4-850C-2A352784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2285E-FF00-44C2-8D55-E46462C9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1DFB-890C-4425-A42A-0E540474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40D1-8330-45B1-8729-6C8B2F33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E519F-362B-4204-8C4A-530D4D17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95726-B83C-4272-ABDF-D54E720B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15F94-E9AE-40B0-93E2-35EDB639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415F3-9100-4302-89DB-EB489854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32026-2974-43F0-8072-369CAC05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7214A-AF7F-4D0F-8CC7-B8ECCA1E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14830-F5E8-409D-802D-3A8DF238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3EE8C-3D7D-422F-9F16-F5031B50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4C144-4F4B-4372-91E2-6B9AD58C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B13BF-4978-4375-895B-4A6C173C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ACA31-334E-4987-AD08-F5056312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EC0B3-C28B-43DF-A13D-F2D26706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DE6B2-78A5-4FFC-856D-85CC203D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C940-6FF3-4618-B7E0-4D0A09ED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FAB1D-DC7D-4F7B-A788-85C996D5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9D760-F36D-423E-975C-92E71C9D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BA3FA-AE74-4FF0-BD67-1ED88485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70DC3-3A42-45B5-8A53-089C2411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4E301-3E53-47F0-BA49-69B128A6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AFD9E-37D5-415C-93B4-6A0901AA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4A671-AD8E-4471-96DE-51F68980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40834-57C2-4036-BCB7-314B9CA0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61ADB-5CA1-42FC-BA3E-F410A335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3DC21-5ED5-4F9A-B1AA-E770550A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E7344-223D-45D7-9917-4F0323D7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10D22-FA78-4736-8A80-1B608DE5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85DE4-5660-481A-BF47-76F72D13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23BB8-805B-4982-A2F6-B8DD9CB1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71830-17B8-4AED-8D22-24AB685C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9FC0D-42C2-49A8-B4B7-C1090704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C0BAD-6B89-429F-80C8-1A1496DD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B9BFC-3CBB-42B6-AF70-4A826487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A3BD5-C6E2-4325-B33C-A9B3D20B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B9947-C2E9-4E05-81DA-FF56ABDF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5E8A9-0BEB-4714-9D3E-B616681F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240EF-22C6-43C7-BD67-A1B8FD31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4BE4C-B537-4F23-8CC7-D6E9045C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FFB78-0C19-4288-BD0F-FFDFF580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2C9F2-4833-496B-B1CA-11ACA425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2277F-B2F0-479F-B9ED-1E936740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8F232-939C-44B2-A5AF-50F1D8F1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4A949-A201-49F8-8632-EB486598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61CAC-262D-49F5-9C93-428CD302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6D131-20C6-4762-85C8-56086B67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4DA35-7E14-49C7-BDF3-41FDD1DE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AFCA9-AD21-48EC-9D6A-FDE7D602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34F43-8A5B-40F6-89CC-FB71502B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EFD0A-D514-46B0-B81D-A0F59FDF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5A317-D0FC-4E35-857F-22A53F30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7BDB8-7E84-4173-AE3B-B981794E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E7C0B-1059-4463-88E1-B18BFFAB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7BDD-AC29-4FCC-B4C8-9A29C13285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90EE-0656-4068-A8EF-4D125864E44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0B87-0CF3-497B-892D-43B90E8A79A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106F-CC19-41D6-B002-683D397EA42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288A-CF4E-45F0-AC2A-F8F60DDAFB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D962-9FDF-48FA-A303-537296F958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41EA-FEFB-4488-A281-7409196774C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7B66-2873-491D-A2BC-06EB727C4F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76EE-6F0C-4693-94EF-399223959F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1755-369E-4394-BAE5-742F204A44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0381-F8C2-45E5-AC5D-D41E90F9029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EFF0-7628-493E-A3D3-BE288B92AC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Filosof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Social-Polit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10" descr="filoso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2363-0D41-4702-8CB3-33C2398307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00:58Z</dcterms:modified>
  <cp:revision>51</cp:revision>
  <dc:subject/>
  <dc:title>Diapozitivul 1</dc:title>
</cp:coreProperties>
</file>