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DB40-F55F-4981-B7E9-3A24F5B3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7CB-33B5-4105-B6BC-8CAB80CA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FC1C-1E28-49F6-91CA-D91D40A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8271-5BDB-4F52-BACE-23C9614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EF50-D797-4EF8-98AC-0F37548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94B5-CCE8-45EA-B9CF-C492474F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DA1D-24D1-4C58-81DC-1B4C2B4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D936-8735-429B-AA60-8A55BEF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1478-872B-44AF-BAC3-E1B2CA7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68D76-9120-4D28-8D71-8DD21254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175CE-67E0-43A3-85EF-BEC33841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B784F-2841-4181-A193-742E7BFF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FDB7-2CBE-4859-8B8B-1ACFF256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7805B-C989-43B9-B61B-E4C2F7CD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DAC20-1E7A-4E31-A787-04287E46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F7604-43F1-4165-BACE-7A9E4015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3AB79-7654-4004-B9C5-2749D5A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1068B-93DE-42A7-9312-AE55779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CC29B-BB14-48FA-888D-115F48E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3B518-C04E-4FBF-93E0-32A7DA7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EEBA-E3EF-4A94-AAB3-67C27D71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B744A-CFA1-446F-9723-F992BBFF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7CD2-BB91-46F2-B725-3D04711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7661-58A4-4780-9AD4-9918A88A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1150A-8BD7-463E-B285-7B21F1B2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4C1C-40E1-4614-9F2D-A161C94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7AD3B-7B44-429D-B07B-FAE89D23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BAD30-A518-4D27-BA3C-CCDE0020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6D52-9A8E-40AF-9B0A-8CF07538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7BB54-70BC-415B-BAB0-C0A4598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52EF2-9F3B-44F8-B9E1-C7F8DA0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7DCA6-E8CA-463A-914A-157FC21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86D-E9F5-4551-B8D7-5A7F37E5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85925-58E7-4E31-AF36-D994F473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3BE32-252E-4004-BC1A-E73CD93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11B9B-E297-46FA-8478-53A63570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4ADD3-C4E7-4935-80C9-ADA70C0A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B29E5-DBB0-4E2C-9A84-F5C4B321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66158-D015-49A9-9081-60F9888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D5A97-AADC-44BC-9833-C8ECD7B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E2C01-CBC1-40BD-A994-ECBB5E16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8731-B9F1-457A-9594-DF3400F3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7E79-BF74-4223-859E-F6CE2B2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4FB-0BAE-4184-A4D7-427797C8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EF66-E028-4183-BC89-C96E284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B6B1-A547-4BF6-9F20-CCA63E8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45DC8-B660-47D3-A5F2-C47CB7E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B3259-7D44-4256-B0E9-4FC04F82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6D5C4-21BE-42AE-99C3-AEAB164A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62D17-2462-476A-8A3D-F7E6C431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FA09-1E43-48BC-B2DA-21947422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9C105-989D-400F-9D90-283A9E4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7E7A6-F4B3-4D7B-8123-104F5C5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ADB52-F1FC-4041-B8FB-E0F0379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997-9653-4C3A-9FD8-AD34AC5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E416-665B-4FFA-9849-523DB49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73A0A-39AF-4569-AA08-0A6B565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8A1A9-D780-46CB-9B77-7C901F57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3CF5E-1FAB-469F-B879-CE8EFA4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DE15D-31FE-4515-AC37-F331C95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96CE6-C18D-4F24-B1C2-011D4C2B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F5429-A8B8-4E51-A298-FEADF70E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7B4A0-8DE8-4325-A2F3-589A0682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60042-A067-43C2-B74C-17E27C66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5696D-A260-4411-A09F-39054D10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920-0ACF-4A97-99C7-BD1E09D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2BF19-31FC-4166-A487-D2D4BC7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FEF3A-3612-4FDB-99C8-B0F2E9F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F8A67-D241-4522-ABA3-861ECC55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C6CBD-16B5-4F82-B57A-1FEE978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F4935-D92F-4D5C-A607-8677134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0F32A-6652-4ACD-AB89-5666E5DF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819E0-59A2-4528-A0FA-3BB18C8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B4156-8D40-4F48-9552-1CD3575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2C6AE-179F-470D-8B30-0E36DCB1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2B4-59C3-4432-A41A-2B3BD36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329-167A-47B4-AF72-DBDB904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695-8DCA-46E4-B80A-53B2CE7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5CD-CAB4-4433-80B2-1E28FAC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80F-FC3C-4D41-B2B0-0E5F975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226-5F69-4068-826B-C1CB31EB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469-670A-4900-8AB8-7DF1D289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B1D-51D8-4358-A88C-4169423D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5AF7-B43D-49B9-A9E7-02574E96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F42-31F7-4DBA-AECF-000EB94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B58-2808-4C81-8790-87A4CD8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BC05-D606-4F36-AB05-993C6ADE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E58F-E71F-481A-B3BC-B70097E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454-B716-4344-9A92-A4FD820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30B-B269-4FB6-94D5-D4987A1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7A96-CE27-4DF4-B4DA-7704AFE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970D-92EC-4790-A638-AD6EDCB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B65-5B90-48FE-B559-AA52BD1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674D-25DA-47ED-A199-9D6B61E2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B1EE-6BC4-47F0-AF40-5161401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8CE6-C457-4080-9B1B-1225E648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240E-100C-45CB-9984-A239CB4A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C807-B81B-4746-B683-81EC6CC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E6B7-841B-4FF3-B367-20F386D7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8EE2-148F-4DEA-98D1-E32AE7B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7908-AF8A-4129-AFC8-7014D9A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054D-2666-48FA-8C50-173E489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78E2-7B5E-4CE4-86E5-D34DB10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B9BD-E2E2-4B92-8919-DA65EEF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3093-1B56-4AFB-B421-CBCE354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2A9B-2575-4EFA-8122-037749A0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08CF-883F-42D9-BA90-B54BE0AE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7499-D942-4D42-9B7D-33CD94E6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19E7-5FF0-4155-A0E2-3912E717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8CA2-B3DA-41F1-B191-DFA45CB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08879-D64B-499E-A53A-B1CF815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0310-6477-4C68-819C-7269F3C4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840E-91BA-446B-85BD-C662246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4CF7-E929-489E-856E-C126F9B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2CCF-B64A-43E9-AA54-7EDA97A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EF67-4791-4E76-AA72-6A028768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BE5D-019F-4BB5-B49D-829751BC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DAB5-98B8-489C-9656-75AA7CD3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7D9F2-D801-47D0-B45A-AC7039B3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15A3-167D-4894-8DFA-8363A7D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85E1-874D-4C41-9CEA-BC055A2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183E-D5AF-480E-AE90-3BFC7B2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83E8-563C-4261-A688-3BAE17A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DF5F4-73F2-4716-A6BF-F2A0DD3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A499-6E96-4C07-8B53-ECDB1D7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AFA1D-6513-47CE-A77C-E12AE16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6BB6-EADA-4A00-9B5D-F4D0F93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F6E2-3FA4-4D01-8F8A-7DEC43C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AFDC-B92D-464A-94B0-5D339E90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8E49-AFE3-4E36-9AB4-C446961F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02C8-442A-427B-BDA7-F6C32607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9B192-B3E8-485F-8653-6D380A09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2AA4-44F6-49AA-81E7-B43D924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2A494-56F7-4EA7-B0FA-29FE799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C1BAE-E434-4D39-9C24-C46E93E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AF536-8D66-4FF8-965F-6C0D21D4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6764-1FA7-43CD-8F76-C03D5D4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8613-6452-47F9-888A-357290F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C5FC-BBEC-43B3-A256-B2C7509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C50C-4B32-4635-A7A9-43CE2F8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E7E87-FE19-42B2-B6EA-1AF0E35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D268-2F94-48B4-8CBD-4D9E7EB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7797-CB12-469A-AED1-DF1D351B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588D-A0BA-4E0F-B584-A108673B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594F-B2D8-41B7-AAA4-AA73630E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8699-F1D4-47A0-9D6E-8274AA2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FEDA-34F4-4537-9E62-617F9DC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A454-CA93-4873-8BBB-657EAB80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7A59D-8597-4748-B5C0-B0467661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890A-D76E-4F2A-B37E-40B302E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5811-C100-4FD9-A84E-8CA084F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BD21-344F-41D1-B781-A0E2C76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055A-ED9B-4DA6-8304-F9434EDF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C89F-2F6A-45E5-91B5-98198249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AD5D-67B0-4C68-986B-B225E231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CC24A-8ADC-4932-A3B2-F6CD9B59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4804-CD7F-4E42-A181-0D856F5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C5BE-5FF5-4BC8-9987-E217025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226C-28C0-4B23-883C-CCDE8773F4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66E-3168-4E7B-B94C-A86496B7E0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81F-28F7-4C58-BAF5-96A968F661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FBE6-8CC1-47B5-B69D-6D57B962DF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BE8-2849-404E-9C3B-92B2FDC97E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118-2379-45A1-970D-8F8EF30A36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493B-40D2-452F-A185-B1534AF5F4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9DA-8EBA-4414-9E56-623B46881C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7E5-ADF7-4541-BEA7-0C3B4CECBB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83A-585E-48DC-B0B9-B934432E5E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89E-3D2E-4C46-BEE1-C71DCC6F7C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317-E5E9-4C2C-BF99-5CA320B2A0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Fiz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fiz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654-B049-4459-AD39-9C6A3F27F0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04:18Z</dcterms:modified>
  <cp:revision>50</cp:revision>
  <dc:subject/>
  <dc:title>Diapozitivul 1</dc:title>
</cp:coreProperties>
</file>