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B962B-8C78-4ADC-9EE6-A28F3C2C9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Substituent număr diapozitiv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A5B9C-2A52-40EA-B1A7-FABC05797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090594-8BD3-4767-9E49-5FF142091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79A430-FB4E-493D-AF4D-95FA309A2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DC784D-4252-4F11-AA3A-76C76597E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36BD7-3215-4F17-AD60-10CF25BF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380466-D12B-4E41-A895-EA42E825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5BF470-5E70-41C8-8B5D-CCF03BD5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C459B3-0C1C-4F9E-AAC3-AAD41C16D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9876A5-DBAA-41F9-8B31-72297FAB1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B400C8-4B08-4FE0-8939-97AC3F669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B32B8A-7DF9-4AD6-ADB3-DDD4ADEFC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3127B8-2FAD-4849-9D39-F05169085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F366C7-16AE-4168-BD8A-65BA9E19D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8799E5-1B54-4E39-89EB-7BBB2F910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FA4D7D-D852-4550-B7E2-CD9BDBB55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3C2524-6345-468A-8066-1748CE959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15E9B9-6AC2-400C-A160-107BF15C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BE6496-7419-44E5-9281-1EE5658F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CF0F4C-CA02-4A6D-A095-D7352D51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46FC7C-BEA7-4242-BF58-C5985A84F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88149D-E4AA-42C5-904B-8BE8D7497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7C0C40-419C-48BE-9D64-AA185542C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68FF70-FAC3-43B8-BFB1-D94769D79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3C610C-6587-46FD-B8CD-2CEFE0512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63187B-E40E-416B-84F1-84A2C3A1C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D08236-8744-4D03-85A0-03A3793FC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F565B1-A74A-4A2A-B8A7-476ECAB33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E21E66-5654-42AA-894E-23C1F4B53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D253D3-BCD0-4F47-A2E1-61769391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42178D-4CD8-4AB4-BC0D-28ABC0C6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5A746F-BAC8-46E3-9347-43A6FC42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24BE-DE8F-4D41-8785-DF4D56922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696235-F79D-42ED-802C-B8B8E85CC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460B71-4270-4614-8FE2-0A062B701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7E2BB9-792C-4171-9288-6621E5F83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935A54-D28A-4A21-865C-017973B34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C00AF8-ACA8-4245-8133-292D58078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540EAC-CBF1-4062-ABB4-D26FFBC4B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1670AC-44F9-4E8A-9786-3F109E11F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1CF47C-F064-48B6-BEB0-8D8CD0F8D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AF2BCC-F747-4162-BE16-9B8355930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1EA2B6-0B0D-4C1A-A539-FD933B7B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A65E-C0B4-4384-80B4-B8EE7E2F5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26C5A6-811B-45DC-9ECD-452FAD47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230DB2-5E98-42D6-9393-0C606C06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97F3F3-C975-437F-BBC7-C8DEEFC52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902F52-ABC5-4500-9CDF-EEF23E3FC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C5ABD9-A175-4846-AE04-2A2DD9F17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5BB3C6-1ABE-4182-8010-2BBEF1504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D72772-1948-4DEF-AA35-B6686B552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9A0C10-7040-4752-8C7B-9F267A860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2A7261-CD68-4478-AE56-4B9AC16A8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E11AB5-8A3D-4570-81A6-4D01E0DAF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0945-85F0-41EC-B3E2-52A219B3C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0CF632-1C47-4468-8716-7F3988992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ED3D33-8512-4D40-A0E9-9CD2C4C4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83C65A-9130-4DE5-BF37-E03448F1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80AB2C-4E2C-4DF5-BA47-69361A16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0C9C35-A65D-489B-B499-FB384C2F3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55BC05-5EC1-4887-9C59-6BA55094E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900DA1-B9D3-448D-A65E-B95536DC4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E77B89-D5BA-4C42-BE95-5C8DB6A67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C2720C-0185-42F5-86A9-1440655C7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439FD7-59F0-42AC-B398-82C92CA76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41DF-EEC1-48C4-8CBA-F708D3179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88E4F5-D6FE-4180-B5DD-9CDE7E70A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0F8947-4271-4D9F-BB29-A6FE8DF65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D0CFBE-3856-43E4-B854-52BD3D7CE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EB05C3-239F-400E-BC8E-FC5467EE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DDF5C1-457A-460D-AEFD-C3C444F4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721DCC-F010-49B8-B2EA-EC18E33E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31CDEC-BBDE-4024-93FA-C8F5C620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DB05B6-DCED-4339-A3C7-8E1E9CBBA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CE2362-C6F3-4350-822E-D9CFCA710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C3D7-16AD-4EEE-9440-1CCE0170C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9216-2579-468D-806F-699F9FCBD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ECA5-E85A-4154-B5A0-A6855AC0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4AAA-541A-4C57-B7DC-C53D7636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D374-83B0-44EA-BA84-E8DAD246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3C52-0E71-472E-9E89-2367E65B4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70C5-8C16-4E1A-A464-C56E32670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DACE-9712-4B31-9CC9-AD253D66F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0EE95-278E-4C66-A790-01B037D91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543BF-54B7-4BAC-B46F-7F56120E9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7C280-DE2D-4902-A7A4-734AF7E3B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EB529-5E57-47FF-93BA-F5091AD89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346E4-1678-42CE-A1E8-3983819F2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6983E-1E2C-4887-BF70-022AF7943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A6014-D29C-4CE2-9871-48F6276A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C7479-3D46-4A2B-B09B-060B4A47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97077-945F-4AEA-8C47-919D61C2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EF9BD-3125-4702-8F75-29368C9BD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2D2F2-2B5A-4127-AA2B-DF2B30031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1B99A-15C0-418F-AAEB-7FB72F81D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7A86A-FF47-4AA3-9C6E-0B2C6E3F8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1BC37-4A41-425C-A48D-B17D93A0A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4494B-63E6-4460-97C5-2144B462F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FDFC7-86E4-44B1-A6AC-8DA72DF64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555DE-2BC3-4570-9A8C-3F89A9760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C7C40-12E6-4A03-BB67-738F22C0B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AE5B6-C44C-4C71-A2F5-D02FA42A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9D843-7C7F-40E2-956F-D73A5D40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CB523-6EB2-43B6-AA06-B776AB01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AD92F-0106-4C93-AE24-1B42B94CE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3A985-D0D5-47AE-B8C1-68A0A291D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D52AF-E3F1-42A5-A803-8096A4FB2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7F0A1-C283-474F-9AAC-AB3F1B809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EF493-70B1-4229-BD3A-B5EA0D454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8183A-5C0F-4267-B78E-052E6C71B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F606E-3DBE-4663-A988-B80AF8E15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1D40D-3DAF-4DDC-9D12-04571497F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7167E-DD56-4AB4-9080-ADEC3BA3D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18686-6CFF-4536-BC12-8DE8F426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32DA2-4FCA-4172-80B2-F82C7DA4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C9D9C-5EA2-4794-B327-E70F473E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19197-F929-47E4-8BD7-7153D7525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F77C9-2923-439B-9356-0A81A6E4E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A0DC1-C917-4DA4-81D5-3F5C8C587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7E3E7-53BE-4265-881A-84237513B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B6A28-0DE6-431C-ACCB-48FC6A020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33D6F-7111-4B2C-BBB8-401417187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92E73-53A9-4780-ACDC-C5CF6C51D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80A67-88D8-48F5-AF93-0A170EF98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B6C66-E7F1-489A-8406-2F47738F7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6CDBE-4196-42ED-A209-1C928960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8B884-372C-42EB-AADA-43D41EBE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071BC-DE09-4F59-A2AA-1808AB1A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CE116-CB6F-4891-AD67-76D01BC74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A0EE3-BEF5-4A26-882C-BE07E8276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E864C-C42F-4CCC-95C7-A275E1E7D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DB91E-2328-453A-B97B-70AB51E4D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8E5F1-9989-4634-8FE4-2B3D23ACD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FE339-206E-4652-AFFE-9CE831C24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49A2F-D1B6-4DE1-9FBF-2FF56D070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C3A4E-0377-4964-B179-EF1F76659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7B05E-E240-4FC0-A394-CAB0759BC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81982-B937-4EE3-AEB3-C96FB085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E25FB7-C6A0-4299-861B-6C94A90C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EE142-F56A-4AB3-976F-A1B76861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45EB8-3128-4E6A-B904-07BAE99DF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E0BEC-7C44-42C9-9633-F5D492A19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1D55E9-4C17-465B-A105-807515A69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8AD390-70FB-4742-9171-F9A49C403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F80B14-9505-4167-8411-8ECAAB30A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FFEC0-CB7A-40BC-A454-37B98DEDC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EB4FA-0019-46CA-9F2E-844C054A7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364DE-9EB2-4991-A4BE-618DF9AEA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C49A18-FDCE-4EE5-9D7D-412837A1F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DAB048-6234-4C0D-9EB7-5A2F8D5E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07D92F-E254-48C9-87A0-0EDEDD5D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C292E-FBB1-4848-94B9-765C5BF1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1C874-A965-4DD4-85C1-2493FE5B4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C88D2-B993-4BE6-911D-F98086CEC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8472FA-BCED-4A32-AE9F-D31D77C56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A4F1CD-C831-4D40-9F4E-D2C207E04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557F33-877B-4B8C-80D2-B1C3E1C7E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0621C9-1200-42FC-8191-C8AC075C2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Geografi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Geolog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Imagine 6" descr="geografie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4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Geografi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Geolog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Imagine 6" descr="geografie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92CF1-810F-4854-B8B6-8C0ACA1C084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8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Geografi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Geolog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Imagine 6" descr="geografie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07AE5-85EB-4F71-9707-21DB896C798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2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Geografi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Geolog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Imagine 6" descr="geografie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F6548-94C3-4E00-9AFE-DF49CE96FF2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6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Geografi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Geolog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Imagine 6" descr="geografie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898C0-6FF1-4674-AC1E-772DB5522E2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0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Geografi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Geolog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Imagine 6" descr="geografie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1BCC5-5D1C-4D33-8210-215141FF1CD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Geografi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Geolog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Imagine 6" descr="geografie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A55B9-A1DB-4934-892A-7C1F8BA10F0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Geografi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Geolog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Imagine 6" descr="geografie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2557A-3FC0-4F7D-A554-1EA4810FDAB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Geografi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Geolog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Imagine 6" descr="geografie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E364A-CECD-465E-BB61-78414FE4891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Geografi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Geolog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Imagine 6" descr="geografie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5175C-427B-4C61-AC3E-5F10F693877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Geografi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Geolog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Imagine 6" descr="geografie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0C5E0-CF7F-49E5-8E4E-D8524B24911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Geografi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Geolog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Imagine 6" descr="geografie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2299-37A6-4772-BB53-F70338C5649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6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Geografi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Geolog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Imagine 6" descr="geografie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C6011-0B0B-46C1-AAFC-89896FB5DB2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0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Geografi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Geolog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Imagine 6" descr="geografie.png"/>
          <p:cNvPicPr/>
          <p:nvPr/>
        </p:nvPicPr>
        <p:blipFill>
          <a:blip r:embed="rId3"/>
          <a:stretch/>
        </p:blipFill>
        <p:spPr>
          <a:xfrm>
            <a:off x="3505320" y="61722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3B58F-6702-4EA3-BCA1-13DADA43F61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4b49"/>
                </a:solidFill>
                <a:latin typeface="Georgia"/>
              </a:rPr>
              <a:t>Titlul prezent</a:t>
            </a:r>
            <a:r>
              <a:rPr b="0" lang="ro-RO" sz="4400" spc="-1" strike="noStrike">
                <a:solidFill>
                  <a:srgbClr val="4e4b49"/>
                </a:solidFill>
                <a:latin typeface="Georgia"/>
              </a:rPr>
              <a:t>ăr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Tipul evenimentului </a:t>
            </a: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                       </a:t>
            </a: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(alte informa</a:t>
            </a: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ţii opţiona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Conector drept 4"/>
          <p:cNvSpPr/>
          <p:nvPr/>
        </p:nvSpPr>
        <p:spPr>
          <a:xfrm>
            <a:off x="0" y="1447920"/>
            <a:ext cx="609588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Conector drept 6"/>
          <p:cNvSpPr/>
          <p:nvPr/>
        </p:nvSpPr>
        <p:spPr>
          <a:xfrm>
            <a:off x="6095880" y="1447920"/>
            <a:ext cx="304812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2057400" y="2666520"/>
            <a:ext cx="54864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4b49"/>
                </a:solidFill>
                <a:latin typeface="Georgia"/>
              </a:rPr>
              <a:t>Titlul sec</a:t>
            </a:r>
            <a:r>
              <a:rPr b="0" lang="ro-RO" sz="4400" spc="-1" strike="noStrike">
                <a:solidFill>
                  <a:srgbClr val="4e4b49"/>
                </a:solidFill>
                <a:latin typeface="Georgia"/>
              </a:rPr>
              <a:t>ţi</a:t>
            </a:r>
            <a:r>
              <a:rPr b="0" lang="en-US" sz="4400" spc="-1" strike="noStrike">
                <a:solidFill>
                  <a:srgbClr val="4e4b49"/>
                </a:solidFill>
                <a:latin typeface="Georgia"/>
              </a:rPr>
              <a:t>un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Conector drept 4"/>
          <p:cNvSpPr/>
          <p:nvPr/>
        </p:nvSpPr>
        <p:spPr>
          <a:xfrm>
            <a:off x="0" y="1066680"/>
            <a:ext cx="426708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title"/>
          </p:nvPr>
        </p:nvSpPr>
        <p:spPr>
          <a:xfrm>
            <a:off x="38052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Titlul prezent</a:t>
            </a: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ării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Conector drept 6"/>
          <p:cNvSpPr/>
          <p:nvPr/>
        </p:nvSpPr>
        <p:spPr>
          <a:xfrm>
            <a:off x="4267080" y="1066680"/>
            <a:ext cx="487692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49528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Introduce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ţi t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ext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Conector drept 4"/>
          <p:cNvSpPr/>
          <p:nvPr/>
        </p:nvSpPr>
        <p:spPr>
          <a:xfrm>
            <a:off x="0" y="1066680"/>
            <a:ext cx="434340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Titlul secţiun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Conector drept 6"/>
          <p:cNvSpPr/>
          <p:nvPr/>
        </p:nvSpPr>
        <p:spPr>
          <a:xfrm>
            <a:off x="4343400" y="1066680"/>
            <a:ext cx="480060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49528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Introduce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ţi t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ext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Conector drept 4"/>
          <p:cNvSpPr/>
          <p:nvPr/>
        </p:nvSpPr>
        <p:spPr>
          <a:xfrm>
            <a:off x="0" y="1066680"/>
            <a:ext cx="434340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Titlul secţiun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5" name="Imagine 13" descr="blank page.png"/>
          <p:cNvPicPr/>
          <p:nvPr/>
        </p:nvPicPr>
        <p:blipFill>
          <a:blip r:embed="rId1"/>
          <a:stretch/>
        </p:blipFill>
        <p:spPr>
          <a:xfrm>
            <a:off x="5462640" y="1427040"/>
            <a:ext cx="2998800" cy="3473640"/>
          </a:xfrm>
          <a:prstGeom prst="rect">
            <a:avLst/>
          </a:prstGeom>
          <a:ln w="0">
            <a:noFill/>
          </a:ln>
        </p:spPr>
      </p:pic>
      <p:sp>
        <p:nvSpPr>
          <p:cNvPr id="636" name="CasetăText 11"/>
          <p:cNvSpPr/>
          <p:nvPr/>
        </p:nvSpPr>
        <p:spPr>
          <a:xfrm>
            <a:off x="5821200" y="27828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ima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Conector drept 6"/>
          <p:cNvSpPr/>
          <p:nvPr/>
        </p:nvSpPr>
        <p:spPr>
          <a:xfrm>
            <a:off x="4343400" y="1066680"/>
            <a:ext cx="480060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Conector drept 4"/>
          <p:cNvSpPr/>
          <p:nvPr/>
        </p:nvSpPr>
        <p:spPr>
          <a:xfrm>
            <a:off x="0" y="1066680"/>
            <a:ext cx="434340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Denumire imag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Conector drept 6"/>
          <p:cNvSpPr/>
          <p:nvPr/>
        </p:nvSpPr>
        <p:spPr>
          <a:xfrm>
            <a:off x="4343400" y="1066680"/>
            <a:ext cx="480060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Imagine 8" descr="blank page lata.gif"/>
          <p:cNvPicPr/>
          <p:nvPr/>
        </p:nvPicPr>
        <p:blipFill>
          <a:blip r:embed="rId1"/>
          <a:stretch/>
        </p:blipFill>
        <p:spPr>
          <a:xfrm>
            <a:off x="1109520" y="1219320"/>
            <a:ext cx="6864480" cy="4041720"/>
          </a:xfrm>
          <a:prstGeom prst="rect">
            <a:avLst/>
          </a:prstGeom>
          <a:ln w="0">
            <a:noFill/>
          </a:ln>
        </p:spPr>
      </p:pic>
      <p:sp>
        <p:nvSpPr>
          <p:cNvPr id="642" name="CasetăText 6"/>
          <p:cNvSpPr/>
          <p:nvPr/>
        </p:nvSpPr>
        <p:spPr>
          <a:xfrm>
            <a:off x="1905120" y="274320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4e4b49"/>
                </a:solidFill>
                <a:latin typeface="Georgia"/>
              </a:rPr>
              <a:t>Introduceţi </a:t>
            </a:r>
            <a:r>
              <a:rPr b="0" lang="en-US" sz="2800" spc="-1" strike="noStrike">
                <a:solidFill>
                  <a:srgbClr val="4e4b49"/>
                </a:solidFill>
                <a:latin typeface="Georgia"/>
              </a:rPr>
              <a:t>ima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1295280" y="5029200"/>
            <a:ext cx="64771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Georgia"/>
              </a:rPr>
              <a:t>Sursa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08:57:38Z</dcterms:created>
  <dc:creator>User</dc:creator>
  <dc:description/>
  <dc:language>en-US</dc:language>
  <cp:lastModifiedBy>User</cp:lastModifiedBy>
  <dcterms:modified xsi:type="dcterms:W3CDTF">2010-02-04T12:10:22Z</dcterms:modified>
  <cp:revision>52</cp:revision>
  <dc:subject/>
  <dc:title>Diapozitivul 1</dc:title>
</cp:coreProperties>
</file>