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8268-DA11-445A-B6D7-C8E169599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FC4C-773C-42C1-B063-F0B13F5BB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B06DD-6951-4229-8341-5BA94296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60AC6-BDB2-4EF8-A9DC-84F9A969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DB13C-A2EF-40AA-A8F8-F28D11BA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E557A-34ED-426A-92F6-27936B0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0A6F-F05C-40E6-AE01-09820438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15D64-DAAE-45C6-9D2C-1F2F8FA0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E47A-0396-4B77-A05F-4922C35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9E366-167E-4534-AA4B-6D4F6EDC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36CFD-7439-4FA4-90C8-AF049C85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C2FEC-E708-4D89-BF05-5D96A82F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5713A-28F7-4985-84FB-935E975F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F8BB1-0AD2-4F9D-A4BD-7C39C7A6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00D79-FD4D-43C9-8B50-82FF2E11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3186C-633F-49FC-AB01-84E2B79D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E92BB-355B-4B4C-9C58-8B5C4E1F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73751-F746-4CE7-ACD1-E8E2638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7B31C-2953-4F14-8B62-28CEB0BB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01E35-906D-4299-A940-DA98F02D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B0107-5D28-4FCE-9CBC-0237969C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04106-16B3-4BAF-8510-8F4CE2FA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10343-16C8-4778-A280-398E9D57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B9854-9AA2-489B-917A-B94ED05F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8BC5D-81BE-4875-A517-2E59E7F2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277B4-0A6E-4427-8A4F-9E478CF5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978EF-6E77-4D36-BD75-FA12BE34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C53BF-9AA3-4AA4-8592-5E5DA91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A65CA-7857-4F3E-A599-DB01DDEA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DCFF4-FB6D-47CD-9E0C-2F226296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13C80-913F-439E-A011-CFC194B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108E0-7446-43D3-AB6E-BD5D5EFF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F2A-FF95-4FBE-B61F-70126B74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D7C91-8657-4978-B822-B0CF550B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8056F-9500-4AE6-A169-8D33BE99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A50AF-3E8C-4B7C-B72E-7DC8E46B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CA8AB-5F13-4497-90DD-39458590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DCAEF-A347-4D7E-989B-308BC16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0880C-D258-41D1-8572-D8C79D08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77E0F-14DA-4500-BE8E-6D14E6A0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34F86-940B-4204-A36F-05ED6CA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7BAB-81EB-43EB-B34E-35708AD8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BAB65-B77D-4DFB-93F3-EB72906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5EE-3ECA-4FC4-BCE3-D09A22E7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A8C02-E733-4EDD-BBB1-DCDDB025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06E2F-B5FE-4878-9B8A-BB8B5566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5CBA4-3EA5-4909-90D2-C18020E2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C4D0C-759C-4E5D-AE06-53C08A1D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795F-27C7-4AE3-9820-FAD31171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B9586-7871-47A1-A957-725CCFEF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BB188-900D-44AA-B688-B12A8402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86EBD-427E-4EEA-85B7-B312B43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BE4AA-76A5-4912-991D-D8766823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0B441-9D24-412D-8987-B5A21520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9B0-67F7-48B5-8AEE-E3BF6F9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5E845-8CBC-4990-9106-F6433D0E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51F83-289A-4274-81C1-635647D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B8199-33CC-4BB5-8FB4-C273F39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3F75F-387C-4C1D-B199-3A5EB00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EF6D5-88EF-4913-A010-34F02A5F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B54E6-0A05-4845-A8B2-A0351D38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5AEEA-E59C-4246-B8C2-87DCC9F9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34D47-97D2-4AE8-AB16-06498BC3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25928-8767-44BF-B7CC-ACA6A2DD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59FDE-FFEC-4C95-B432-B832203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223-7EE6-4DBE-99C9-B08D5C07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402C0-1E94-48DE-90CC-086E9A6B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362EF-9715-4EBE-841B-BFB8C0C1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D9065-8017-4DE1-84E4-2270394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48144-97EC-4D6D-A7F4-B22B2063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DD5F4-29BD-47C5-93AE-5818493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3F05B-303A-438C-97E5-3F67166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E91F2-AC1B-4D7F-B6C3-010D1E7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41298-9F0D-4BB5-BEF7-AF456BC6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81CA3-9B38-4799-AC1F-CF10B3E9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D1A-50AC-4B05-A14E-DDA71C3A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A44-5FA4-41FE-B623-ADD38495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90D-29BF-4493-9237-4A1652C0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EC3-1F05-4B58-BD07-1BAE6CC0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0E3-5C6A-4090-82EE-83413F1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1F1-D499-4DA6-A041-2392CCB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93D-6F3A-4332-B614-F620E8D3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095-4A6C-438D-AF16-223B0C3E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61A8-C544-427B-B6F3-5666C400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BA41-79F5-4E22-B87A-AA8DAA88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AF82-5EBE-4D9F-B99E-2F4FB434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2B7A-5466-4506-A6A1-F70233EF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73D5-4C80-4F3E-A330-EE7428A7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16E8-79AF-4430-AAA0-79B7A327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1C6-462C-493D-9E73-C3F34B1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D708-547A-43E7-9A0A-DEEFF8C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F540-BB8B-47D4-92FD-975A5E39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EEA-BA7F-49B4-B19B-D85BB0E8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C27C-E2A9-417D-8969-81E5E949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FD46-4EF8-4C5F-A91B-5D516DA2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1215-94A3-49D4-B8AD-80418316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BB22-6B2D-49E2-A17C-1E185A7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52E7-979F-41F7-A02D-8306BD3E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C4F6-AE24-4FFB-9BD7-34A60F9C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5ACB-72DA-4D3C-B845-3413EE0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CA0A-5067-40B5-A5AC-9730AA1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270A-BCFC-48D2-B4DC-EB223295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90FF-75A6-48AF-8DD0-1419D49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8342-AEA9-4B3D-8E89-BE61541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CDCE-13E1-4A62-9674-A25BDC1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60C3-71B9-486C-997C-8BEAA965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D4AE-1ADA-48E0-AE45-6F0D565B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8FF4-4D37-4C78-AB54-23135721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FDA2-DCF5-459A-9570-E7D5DEE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44DC-C497-4EDE-B6F1-97E46E4B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149F-8248-4D36-B83D-C265285D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BBF6-E705-46DE-B6E6-94C22F4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73CE6-671B-4D32-8D4E-F453CBA1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BFB7-5357-4F36-A275-F8EE392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E01A-7F82-4B27-BDD9-05B07A4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F317-AECF-4FD5-BF0F-6973C35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6DEA-4A8A-46F0-9CEF-EB567BCE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1211-BC10-4A40-A80B-B01C07FB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109B-55C6-4061-B122-90C59410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775D-2367-4140-A0ED-EFD4129C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85AC-C19D-4910-8D00-80F65003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1FFD9-A98E-4DF4-BA7D-96676584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97A3-B34E-4730-97F5-8D376F2D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7771E-7A96-4784-A1EA-D4B1635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1644-CEE0-4F2E-A6D2-7F1BB891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95C7F-2512-4588-9369-3AFCB22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82DF-AB05-4E5F-9C88-B448225C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C3E9-21BF-4FF1-9EEE-CF7F554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D5B6A-A008-4C01-8263-F4BA5BE0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283D-99CF-4178-A841-4BEF1697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11817-D260-4711-9F30-A798EC19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0997-1E48-466D-80FC-CCBDF353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4FD1-9CAA-4095-A4A5-744B2A45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8E7E-671A-4B9D-8D0B-DFEF026B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B6F9-CFB7-45EA-9135-A1B4692D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7FD5A-F608-4EB9-A4C5-BD540178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1F34-331D-4EA5-8C64-8BCDD086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973E-BDD0-41C5-924E-A3681935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F19A-DF27-417C-84EF-D5B0D77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B55B1-CCC0-4C78-8381-2C2C92B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69FC-3DF7-4EEA-9DE7-B167C0CE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75FF-647A-45DB-A4ED-5969F2AF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B323C-3156-43A0-AFA2-8468F8B1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3A4E-95FA-4AF8-9DF1-0EDFB1CA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3DBF-A902-487F-8663-CB198A1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A5C4-402A-47A2-B973-F90D3BF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7E40-BD2A-4197-AF18-0EC7DAA3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FAED-2185-42B0-9A1F-BF27754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9F41-14B6-420E-BF2E-6332AD0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0B91D-7FFD-4569-90F8-3C21207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DBC9-5072-42E8-B5EA-D9D7A0C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0F57-07C7-4351-9AEA-12947AA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9782D-1D5E-455E-BE57-20DC37D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7486-4744-4998-B480-DB51D034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160D-3424-4D90-BF67-2501B7DA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68934-1F2B-4E4C-991C-FDCCAA73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AE30B-F37F-4F85-8B69-E1289CE7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F0FC7-6FCA-4BE4-B42D-CC412544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541-23D0-4B24-A115-17B0BBCCC3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2558-CF2B-4BAF-94C0-EC577C8DDC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83D-1D16-4DDE-8448-296BFA9988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F8F5-204B-4BE8-8886-CFDA9CFC41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9F25-78EB-43C5-93B6-DB52DEB586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548A-A368-4C4D-9562-EAF3C9D59D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2FA4-2003-4074-B454-AA09E60F46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D34C-DF72-41F7-BDC9-29D0D95B8C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E917-C255-4508-9BCD-8D3813ABF4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D8E1-672E-4D56-B39C-2F54112E21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44C0-C454-49B2-B837-6C97DBC3F4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E5E-E74F-4800-B8AD-BCDC796CB1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Infor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infor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410-5EB2-4FEB-8825-BCEC6A8DB6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1:12Z</dcterms:modified>
  <cp:revision>51</cp:revision>
  <dc:subject/>
  <dc:title>Diapozitivul 1</dc:title>
</cp:coreProperties>
</file>