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0441-92F4-4AD6-AA00-AC04316B6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1189-32DC-4A1C-968E-2869499DF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3905B-BEBD-44A9-862A-85D7F39D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686F3-699A-4FA5-B3FC-CDC2764D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79938-8D92-4733-B177-077DAC3C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94397-E1E5-4DED-9672-80898251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ECE68-0EBB-40E9-B086-B3AFA054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3894D-9574-4144-816A-B9180D41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57422-55EF-4AA5-9C4F-696CD619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E3763-1F2E-492B-A379-45C78168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E6B8B-2628-443E-8F39-559EA2F7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E331F-F320-4E89-B384-FCFD2B4F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FE2CF-09A1-4ED0-991B-B666AC99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E9139-5ACC-434A-B332-4A7D8F57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32CFC-BD19-4A17-BD5B-3A428EC0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BD06C-43AA-48D1-832B-8673DEAA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AECD1-94C2-4272-9A86-A85A88BB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EDDC4-85ED-434F-B98D-F87B554D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3EDEC-371A-4166-BEEA-A95690DC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8D380-7F32-41A6-B534-357676FD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35F8D-6FBB-4C4A-9CFB-A3A5AF3D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27B70-6137-41CD-9D0E-DD44DA91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F8501-C55F-471F-A92F-AA407118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120F1-8209-41E1-AE05-8EFD6A5C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E6FC5-4558-4E36-BE0E-67A98F21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DF5A1-36CA-49EA-90BD-9B83B2F6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5C6C0-CD92-4AC8-BB9D-347846CD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052E6-AC74-43D7-A87F-F7F33C02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3DC81-4026-496C-BD81-5F8126EE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4F227-2DC1-4B7D-A702-178254EB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97281-F194-4B34-8696-A300247B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C58AC-EE7D-413E-B8AA-31D446FD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B38C-2322-4F6D-BC3B-F2C73F6F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16D9A-CA91-4EF2-AF04-91B6F9A2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DD706-307B-4F68-9C96-B9FB4264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5343E-8666-437E-99A0-7059B6E1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5EBC8-B840-48ED-8761-ED94F129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A6B9B-EBC1-48C7-AD9B-ED2F4020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FBF1E-09CE-4538-9C42-EA7D8813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40524-A317-4AC8-8FD1-FE3A2E46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40F6A-4522-4638-A77E-119339FE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2F3CC-9747-4FA9-8730-E1C680D6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C5C3F-B185-4B7F-8AA3-95E5E133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BD45-13D8-414F-A970-864BB023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5A055-4DDE-4970-99B6-51FC8ACA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492E7-9D97-479D-9596-553CBD0F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1E02E-8FA9-4C85-9686-9ADC2E62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F23DF-23AE-42DE-8058-C3393857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AE8AC-0A61-47A8-BD4E-430E844D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63473-23E6-45F4-9EC0-B0C73647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CC54C-1E40-4CDD-9100-1580DBE0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6E1AB-E574-425B-B89F-939FC196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D31A6-3CD8-47BF-8CD7-36F02693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1F0E2-F408-445D-A49D-05827C4F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FC61-AAA1-402C-A84B-A90A98A5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C6A15-8282-4F4C-838A-D8B80838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55572-A334-4AAD-994E-EAD475A6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A7ADE-0447-41F2-8197-2303DE6C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65531-D076-454F-9CF5-949BA817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59129-0B47-4CDF-8F88-E5415F4A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647CB-1196-4AFC-8B60-3D026F38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E876C-83FE-4C81-830F-DAD19E09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CF9313-42CA-49AB-AAB0-A22AC9FF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510E5-4776-42BA-87C1-831ECFCD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3D0B6E-7934-4FE7-9BB6-E0D45836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67F5-403D-4F87-A28F-72C52CED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0C78D-E6C4-4A0B-A33C-F59BCD0F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DBF4F-8271-4975-BFA4-AAAABF72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8C967-CC39-4419-BE32-28B19674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99CAF-064F-4B94-8FA5-2EE6DB18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2D2E44-B52C-49AE-A1D9-A2B14AC6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D2AC76-0F1E-4A23-A841-A8E00E3C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6295F-258A-48CB-9FAB-66C63564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9B24A8-B5D0-4D4C-9D77-5B4BB0B9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5E718-859B-40CD-8ECB-FB8D5C7C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F8B-E961-4104-9BC5-8B1D03EE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28C8-3F25-4438-BFBC-6F67A56D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A86-5407-4047-9880-DBC4C74D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90C3-43D0-4A2D-9EB8-A53001DB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A55-CFB2-4B10-9A0C-F77D23C9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8BB-C8D3-4625-8B5F-77CDAA7C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E94-EE69-400F-8DEA-480AEBED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12C-31E7-458D-9B2D-0B688738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A962-F91F-4143-91C6-9819689F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1B8D-9BAE-4A3E-B916-6ED39458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D6EC-D865-4F4E-A16F-F2516900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4C9C-6AD2-482A-AC07-C69527AE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2BD6-B528-4993-A2F9-831CA8F7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C049-5219-4FC6-9EA3-AF534506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8048-A783-4CD3-A168-B4E637A0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6F39-6F5F-464F-A6AC-38EBD08B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DFBA-5C65-4353-AAB9-9401FC23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7336-7014-4B8B-A5E6-6483975C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795A-A573-4160-A410-4134BD22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225A-0205-4181-B58D-EFE450E9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EA1E3-40EA-4A9B-9D22-4F4DF8B3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5D550-9AF7-4099-9701-BA9EDB59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8FCAD-FF24-4BF1-97B9-349AC479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BBFA4-720D-4E42-A385-96ADDB93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ED35F-14F8-4BF4-B5EA-93B76CF0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DA43C-9E83-46C0-A1E9-329ADB28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73112-8F69-459D-BD8A-FC9CD084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72D63-418D-4FD4-899E-98CB11BE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3B224-7D36-4952-A6BD-F4C68E06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F1267-7756-4B67-A807-39A7AFDF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4A18F-0258-42AB-B5D2-766DFE37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787F6-B9F7-4625-A829-F35D129F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B4C73-7428-44E7-A806-BEB52665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315A7-B3A0-4A23-9612-14D57CD7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3BA0C-D048-4792-94B8-C8C56489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D19F2-4108-4BBF-9B4A-497B6EE3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CA000-6A64-4FA0-9404-8EB71616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4E3B3-D586-4DD1-AE61-F0C6CA5E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48CF4-31D0-4F1C-A129-87F9C750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B8407-A425-4C3B-BF6E-63E4EC31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C46AA-7A87-4217-8B8D-AA979AF3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56D6D-8FE1-4239-9AEB-F31AEC04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E5B9B-E1C5-4046-8A0E-23E15AB9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3ACB6-D446-4DFC-91CE-34C8BCE0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DDB95-36B9-464A-9816-F5A10EFC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77F95-B0F5-462A-995F-BE9917A4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D66D7-3FAE-466B-80FF-D45E570F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97B45-3F17-4118-9DD2-F854CC3F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6FF84-22A5-4929-B5D7-A4D08A04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8D5A3-76F6-4B6F-B358-007465E7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93C9B-0DF0-4BF2-A499-41CE79C6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6C6DF-66A0-4BCF-8E65-77559BB5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E8BB6-D325-48D9-BFFE-F43B7F46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F79F6-A5DE-4D97-B87F-8C381D0E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C4882-F25C-4DD5-BBC3-72429F58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134E5-F767-4BC7-9300-CA36E058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960FC-7B9D-4942-9B88-909CF34E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B4C62-2685-4F0A-B692-E2E1FC59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E7290-739D-4089-9253-81AF8629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C3AB8-1B4C-4200-BF81-7F721796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FB434-0BA7-4BA4-99EB-C755A81B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CC2B3-25AA-4274-9BEF-F7AC76F8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97000-5322-425D-8176-8FE470F4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4847B-72AF-4668-9827-84EE91F2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A5426-FA42-471B-AE45-7EBEAB2C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F74A5-1024-4539-81E1-B7C52A19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4E526-6C23-42E1-8D61-4AD4D366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87C96-FB2E-4B20-9DFC-23788267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1661D-41DC-4736-91D7-B8E4F371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9AAA7-3EE1-4234-AFCD-08C98A92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F91D3-2D58-4A60-8C0F-AB253FDF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D7252-EBA9-4FFB-BDA6-C78B163F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CE601-A1AA-467E-9A26-C27A2884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9C5E7-CFBF-46DB-A39A-E4EA6542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313CB-C810-4F81-AE86-5C5C0328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383FA-3F99-4803-93EB-1C84A10B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ABBD2-2C1A-4C50-B207-455375A6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0A7D0-F943-4B7E-8541-07CE99D9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14144-810C-406B-A7C8-6162DE8C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6B825-831B-4239-9ABB-75FB079B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EA79C-12ED-47E3-9E0A-318FF560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0BA1E-8A9E-43DB-B979-8AFD9EE6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C4872-3B65-44CE-B174-F87140DD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B30D-8FF9-47D5-88CD-67E3F3BA357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13B7-17C9-456D-9DDE-B933A6EB050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770B-D104-4541-8DDF-5327B23E00D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591D-DF15-4CF1-B70A-1F1FCE9EAA7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9D57-B57E-47A3-8A5C-18B84E581A9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6725-FDF7-488C-8FFD-12371DEFDD8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D1CC-FEFB-4E91-9C09-6AB457F34DC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371D-7FE0-4DCB-B271-741A1F52647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C395-F07A-4F2E-8537-B6B237F3C2A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99F5-4B4B-47D9-84BE-CB2267EEF80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3AC6-67A7-4647-92E6-F1767F0114D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19E2-4B06-46D1-92CB-CDE4535FEE0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7" descr="istor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1657-BF0B-46C2-8FA6-54C8178BA27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2:23:09Z</dcterms:modified>
  <cp:revision>52</cp:revision>
  <dc:subject/>
  <dc:title>Diapozitivul 1</dc:title>
</cp:coreProperties>
</file>