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169A-C69F-46A8-A7A8-14CA67B18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DC40-3001-4633-A86D-2A2C8A7E2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7139D-890B-435D-A7C9-48572CAC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7F5E6-E0FF-4A49-8150-B19FD2CE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371B4-B801-4985-8A34-C43D36AD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552FF-F301-4BC9-BD22-88AEFD50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A296C-5332-4244-A3B7-1CA9BB6B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C5EFA-CC80-4AFE-A544-E6B24A74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EBC4E-382E-4EAF-B97A-7D5CD519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F0A0A-9688-4BC4-A03B-0DD36819C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A7A41-BC47-4ACC-BDAB-02959ACD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B0E30-A36F-4EE2-A199-45AFB147E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6A154-6737-4953-A55D-B0BBD38F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68E10-E5A4-467C-B42B-D188CED8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83571-0BDC-4152-9FDF-2B8D3E18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EC145-4E9F-4059-A678-190C7150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40685-14D8-46A4-987B-50D7414F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C878A-4152-4269-BDBE-12DC84D6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164F7-6056-4240-9843-6535E1E1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1EC97-CE15-4C85-BDF0-DF007D07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6E23A-369B-430D-AF2E-5E55E09F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E6CC2-5519-402D-9145-0930393A9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3B3A3-929B-4C01-8284-E0B25021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00E787-2ECC-4349-89A5-EC443DA4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08738-195C-4BC9-820E-465CC082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F4CA0-1B9C-4EC5-A2C7-CB5EED1A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F1209-6B8D-4747-90F0-DE44EAED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B7C6C-A6DF-4B22-B49F-9C78967C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91046-DF03-457B-8C60-8EA7CC79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5D243-0B74-43F0-BF43-474A55D8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4E4FBF-6D97-4430-9A6D-4FB94D21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C4BAC-8911-40E9-8B30-4949AA25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E845-41EA-43CE-8457-43ADC9D5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3C64D-34AA-4481-8B59-CAA09563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808F5-3B74-44DB-B411-88A6B45AF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6C666F-CFBE-40DB-A071-A0BA56445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5967A-9629-4477-BD39-3882DB1F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9FA5C-2688-492F-A33B-27DFCCCB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D6983-3672-43FB-B21A-318FC6B5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56CC5-9418-4845-AD66-9E14D201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75969-2EE8-43DD-945B-DC0CFEA9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DCD64-BF44-42F3-8AC2-2F7387FA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2E09C-5699-4316-8951-48B6FD8C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A790-7073-4464-9BD0-F7B81311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E62F5-1F6C-4E06-8279-0B9A53A1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D72AB-F667-4353-9E33-983F4209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C6C8E-B33D-4F72-BC28-AF9A1D24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6667F-9D0F-4454-88D0-232D49B3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1A88B-5633-4C27-827D-C8F184123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99DF76-7CCC-4AE6-A059-B4254CDF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FC3EF1-B022-43C5-8040-4A9D9FCC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269D7C-8CE3-4C88-93D9-15D801C0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96230-84A3-410C-9A4D-2428AA95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32EAB-29F4-4407-B68F-89B28B0C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6266-D20A-428A-9E47-271AACE8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9EEA19-C5C6-41B7-BEF7-1AA823A2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1C09B-AF56-4771-B93B-7065F3CC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AC6EA3-0EDA-4394-B36A-5A7699D1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9A97A7-91E3-4315-9AEE-CF72A62D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58110-5A86-44C7-8B59-0E5A3881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ABEBD2-D29F-43E3-AA92-625430B8C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DF63A-698F-41B2-9B75-FEE7E2B94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68BBDF-B30F-44BC-B574-D5750D4F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8B07ED-FF94-4F5D-9AC4-40098824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AE544F-6AFA-4A94-A184-97717E57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889B-7940-4BB7-BBC8-6DC1122B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0DE330-1655-498C-B2D9-0434B312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EAB265-6D06-4F36-9216-87121E0E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CC9658-8FE3-43ED-BDCA-A293738C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C17E86-ACB6-437D-BFF5-4EEFE633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D08AB4-BBAC-471E-BA43-1DFB3C42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917F28-1BD0-4E9C-A590-85C1FF1A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6ED8ED-8E3A-4357-9A70-C4BCE0D4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539FAD-2D88-449A-8541-FAAAE77B4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FD0328-505B-41A7-A4D5-8A21F80D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AA75-FF18-4609-9C38-82A30647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7D64-3706-49C5-9460-476F0C1C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81A5-537B-47CE-B909-1534FEB6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8516-3912-4528-B64A-137D4FD0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E98C-D259-47A3-9949-6B821186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A983-B8CA-4594-9DC1-F9B72254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AE3F-9229-49C1-8912-4E0E72356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6614-FE71-4829-900C-0862573AD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2EBE-E376-413C-A351-D8F39D25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317F-3F9A-494A-89EF-64716776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5A6D-B175-445F-A6D4-E854AFE8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A7B3-8797-4729-8E6B-3B7FF98D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D052-958D-4CCB-B203-8DDBF7CF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AF26-38CD-4C52-A5FA-B74E24F8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0A12-D825-4CF1-AC4F-49A0F8EE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B5BF-EB8A-49A4-BB79-ABE0C958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33FC-B164-436F-929F-54ED2927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D659-6C04-48A5-93B3-6631DFB8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1FFB-84BC-49EC-A32F-FA2FB297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336B-DDCF-4E38-B7C8-AD70CE662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8F5FB-3A47-49D0-BBFE-8DC0FF23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FDD88-B754-450D-8D60-3488B540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7D3C5-AE93-4FF5-95C9-76FE9887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B1D03-7AC9-4EE0-BA82-0460264C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50157-9DF8-499C-B2CA-751C82E9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AF7D5-9B1B-4BCC-B34C-41699160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1C655-FD12-4CE5-857B-E3E1A4E0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0E5CC-BAD4-4E32-A122-DA3F023F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CE2CE-657C-449D-89E2-E4009A1D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01210-BF6E-49BC-BE1F-8B776CF0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32C45-55DA-4C96-8744-58B40C408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3239A-B871-4AA0-9559-B54F9D6B0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1C508-15E6-481F-B67C-A5D1A079F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D1E0D-12BC-4216-ACE2-8AD535C8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2390D-FC9F-4FC6-8C07-E26568E7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51717-9932-403E-99D3-1CFE4703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3631D-D0F8-471B-864D-32AD4F2D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9951B-983E-49CD-87DD-C05605CE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6D235-6831-4FE2-B7B5-772C7770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7DC67-C721-43C6-A493-6B86201F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EB0F4-07D5-4124-8CCA-428436F4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25800-8013-4919-BA4C-EF0DDB1F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5F230-642F-4C34-AE53-1F9F40840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BD5D0-E94F-4669-8C05-165D51783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33BE4-CA11-4FAA-BB27-5E8ADDDD8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02D72-6CEA-4A46-A1F2-0FF1BE86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85F8F-A8BF-4E7D-8BC3-C270CF23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D264C-FD4F-4929-A347-A8FF314C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1D062-D047-4136-A40E-A82C8B8D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9F22F-6D64-4566-A2C6-5BB5ADBB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3002E-5326-44D4-A985-11E04D36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C9C3A-ABD6-4C90-AB09-BFED384D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BF85F-EB89-4A07-980C-ABE81780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6D71E-FCD4-4414-9005-B7CFB6FF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F007F-6A00-4EC2-9127-7FC8E1F92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1CC69-3901-4FCD-8C57-A89E71A3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6CCB3-40F7-4668-B16E-72DD761A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07EED-94F4-4650-A0AA-CF301392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91806-74E4-4F0E-BBBA-3C3C0321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BAA67-10B6-4032-ADE5-EE3549D4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D9FC6-1E60-4DD8-A06D-685D4D37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8D4C2-EC61-42B7-B41B-E6ED34F5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0E97A-9315-42AA-9388-ED17F7A4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8C7C9-CBA3-4213-9E33-6ABE9FD1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93A05-1282-4D40-AF01-DBC2A890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D4FA3-C783-4E85-A299-86D2EC45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D2803-59EA-46E7-80C3-666645D2C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8145E-FC17-4BF6-A628-C20A25515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36F68-8E51-4AFA-AB67-69C805E2C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8304D-0C67-401F-99F3-7050FB87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43AC5-F1F9-4F4A-8ABB-442F6102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F3F3A-76D2-4F4C-A074-3E9B1ED6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3066F-1538-43A1-A47D-A5FE85EE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920A6-5932-4C1D-AEDE-67A95A5C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D9C25-4DD0-414E-832B-5F74FE95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ADD2D-5684-4A43-935B-B11DF97B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B618D-28BB-4D7C-8CD7-90BEF543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88F7A-61CC-4672-A04A-4E02307C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5F0AC-347B-40F2-A8C0-E8FAD1A8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F9FF3-CD5B-4E14-9BE2-FA01DFE97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6EE40-E4D9-4040-A3FA-3FA9A4B8C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2587E-E311-4000-89D8-89FA8965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5BE31-637D-415A-9F49-DBA88A23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Lit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Lit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8143-448F-4CAB-9B7E-0278DCBC7C9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Lit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1B46-6C1C-4AC5-A2B6-C5EBEE0618A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Lit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0388-6033-4B93-8D04-5D53145F6B5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Lit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3624-A6AD-4535-9E93-8DB2E7BFC5C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7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Lit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8E53-52F8-45F5-91C4-E8763DBEEDC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Lit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0977-867D-4E81-BD4A-737C8540601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Lit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936B-EEDF-413C-BE12-7AE0C3C6D2F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Lit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A822-F819-47D2-A679-548F0ACC272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Lit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DC28-1DC5-4251-9BE7-FFA284BD0E1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Lit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B03F-F5C2-4FD4-8AC4-C532426E9DD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Lit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27C3-B4E3-4227-8007-9F43E5BE4C3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Lit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5CFC-6F0C-4101-B3A8-34894912E0D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Lit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B35C-4ACD-42D5-BD3C-39094490900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prezent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ăr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pul evenimentului 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                       </a:t>
            </a: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(alte informa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ţii opţiona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Conector drept 4"/>
          <p:cNvSpPr/>
          <p:nvPr/>
        </p:nvSpPr>
        <p:spPr>
          <a:xfrm>
            <a:off x="0" y="1447920"/>
            <a:ext cx="60958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Conector drept 6"/>
          <p:cNvSpPr/>
          <p:nvPr/>
        </p:nvSpPr>
        <p:spPr>
          <a:xfrm>
            <a:off x="6095880" y="1447920"/>
            <a:ext cx="30481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2057400" y="2666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sec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ţi</a:t>
            </a: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un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Conector drept 4"/>
          <p:cNvSpPr/>
          <p:nvPr/>
        </p:nvSpPr>
        <p:spPr>
          <a:xfrm>
            <a:off x="0" y="1066680"/>
            <a:ext cx="42670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tlul prezent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ăr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Conector drept 6"/>
          <p:cNvSpPr/>
          <p:nvPr/>
        </p:nvSpPr>
        <p:spPr>
          <a:xfrm>
            <a:off x="4267080" y="1066680"/>
            <a:ext cx="48769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1" name="Imagine 13" descr="blank page.png"/>
          <p:cNvPicPr/>
          <p:nvPr/>
        </p:nvPicPr>
        <p:blipFill>
          <a:blip r:embed="rId1"/>
          <a:stretch/>
        </p:blipFill>
        <p:spPr>
          <a:xfrm>
            <a:off x="5462640" y="1427040"/>
            <a:ext cx="2998800" cy="3473640"/>
          </a:xfrm>
          <a:prstGeom prst="rect">
            <a:avLst/>
          </a:prstGeom>
          <a:ln w="0">
            <a:noFill/>
          </a:ln>
        </p:spPr>
      </p:pic>
      <p:sp>
        <p:nvSpPr>
          <p:cNvPr id="622" name="CasetăText 11"/>
          <p:cNvSpPr/>
          <p:nvPr/>
        </p:nvSpPr>
        <p:spPr>
          <a:xfrm>
            <a:off x="5821200" y="27828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Denumire ima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Imagine 8" descr="blank page lata.gif"/>
          <p:cNvPicPr/>
          <p:nvPr/>
        </p:nvPicPr>
        <p:blipFill>
          <a:blip r:embed="rId1"/>
          <a:stretch/>
        </p:blipFill>
        <p:spPr>
          <a:xfrm>
            <a:off x="1109520" y="1219320"/>
            <a:ext cx="6864480" cy="4041720"/>
          </a:xfrm>
          <a:prstGeom prst="rect">
            <a:avLst/>
          </a:prstGeom>
          <a:ln w="0">
            <a:noFill/>
          </a:ln>
        </p:spPr>
      </p:pic>
      <p:sp>
        <p:nvSpPr>
          <p:cNvPr id="628" name="CasetăText 6"/>
          <p:cNvSpPr/>
          <p:nvPr/>
        </p:nvSpPr>
        <p:spPr>
          <a:xfrm>
            <a:off x="1905120" y="27432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8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295280" y="5029200"/>
            <a:ext cx="6477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Georgia"/>
              </a:rPr>
              <a:t>Surs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08:57:38Z</dcterms:created>
  <dc:creator>User</dc:creator>
  <dc:description/>
  <dc:language>en-US</dc:language>
  <cp:lastModifiedBy>User</cp:lastModifiedBy>
  <dcterms:modified xsi:type="dcterms:W3CDTF">2010-02-04T12:24:46Z</dcterms:modified>
  <cp:revision>53</cp:revision>
  <dc:subject/>
  <dc:title>Diapozitivul 1</dc:title>
</cp:coreProperties>
</file>