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9F145-4CC0-4435-A445-29E9AB577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Substituent număr diapozitiv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504FE-FDE9-44A2-91BD-CF174B947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685D7-E098-4DE8-84C3-DD7C5BF9C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819ACA-9EC2-4E66-988C-063D66BDB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32377E-65D2-4ABA-B46F-1A7A53A3B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389766-8D99-4D31-A9C5-DADD5222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258E99-1C6F-4F7C-8F57-2BD70D60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7B8C0E-AA02-4341-AA00-D9F20D3C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DC7D97-445F-48C1-81FB-5A5FDDD55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00B335-64C0-4D95-A884-B798AD54D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D0BE75-39F3-40C4-B5D1-87D67D649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EF3BE9-E4D8-4FC6-AA83-8F28956F3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46AF30-858A-4B34-85D9-947065676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AF2417-D0F2-4281-93D2-8ECF89068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ED709C-DE17-4CB4-BEFB-529543D72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48C558-738D-44C1-B58F-CA4D87C10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D1196D-CFBD-406F-BF11-9B7EDE2BC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DB60D5-26FD-4FB5-95A5-28DF3ACA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842899-8610-481E-94F3-F64228F9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48AE78-7531-40D9-8E87-6ED3A78D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31A2A5-FC1E-4941-9463-DAC5498F9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20534B-C344-498A-B82F-ABAB75C6A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19C46F-8E5C-464E-9277-FFCCCC372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B97C5F-A8F0-4B2D-A3AA-145439AD9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34063B-5D1E-4E84-B24C-AE18EDC24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47C9BD-90EF-4AA7-A444-7A76A3309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2FFBB2-0EAA-4DE6-A5D9-0A82D80BB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7C3D5A-09F1-437A-AB0E-ADF3A366E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BEB4DF-F73E-40FF-8121-40C17F47B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47041B-51E5-4F6E-835D-F9358EB1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BB498B-A9FD-4C99-9940-56B4BB89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7EF1F4-4E96-4472-96A7-16B0D5FB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06FF-B70A-43F4-9936-78DD02A1C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0061E8-BE2F-4B8A-AFF9-701BABA66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D3E828-23C2-49EB-B2B7-7A567583A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2A4291-1B1E-4435-9E60-EF7BE4F53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977F8F-732F-46B2-84FE-92B6E13CE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322741-4ABE-41FE-9F22-11EDFDE4D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3121C7-83C6-4127-B194-96B213941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6392C4-2159-495F-979F-FE812A919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975EE7-66A9-4BC8-AB74-53B8FDDFB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44F47B-50D7-464E-994F-FB00E99DB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04D706-F0B1-4536-9CBF-C4DBB417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692A-A269-4210-9F5E-18563FD4B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C836CD-9C22-466B-BB65-B61B7722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067F0F-AB11-4399-B750-84C4F992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C6EBDF-ABE1-44BD-8AA5-896B8ABE3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958113-89EE-4BAA-9BC0-0B27AF9E5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9DCC07-5BAC-43F2-8CB8-0ADFE9FC9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E76A42-AFD3-4B92-9704-6CDA470C9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3BFC9B-DB92-4AAF-9DA8-099168080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975694-6ED8-4EFE-880B-24F0AC522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DA1DC1-97A6-44D7-BD66-CE86EF470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6A0B31-51AD-4D65-B441-309034831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1389-EB7D-4E82-8BB7-837F17B38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7BDCF3-123A-4442-9AF5-5830EA7F8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31637C-9DEF-4D9A-BD3F-41E62756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F637C2-6F1A-4077-81C4-8D330992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CD6FBC-274D-4E39-8B45-30232395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A50A91-726D-49DD-86C0-6E3FE0D03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11A7CF-6962-4FDE-B209-7875D5599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02DBF6-1209-4D44-A727-8D218A6AD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FC9CA1-F15D-4969-86ED-372BDD1B5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CAE51D-F283-4985-983E-4CA37A69A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D5DA7F-1C61-48C5-AB7C-B82E7EE6A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3C75-193E-4907-822C-D79B4A7B5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2C0BB0-A803-4637-BFF8-F3C9677DF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8425AF-0BB4-4902-B5A8-DD7F73C32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088E13-9C22-4322-BCDC-2329A361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E2E2A8-CD6F-4D4B-B2FE-2AF14D7B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D1C85F-BCA4-4079-A05D-7C8E1717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B3FF57-4FE0-4DBD-9119-333CD82C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7C9F72-0B54-4BB8-B936-E6A79233A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33DD37-009A-426F-9FF6-4F76CD25F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5E5CE4-9FEE-4E08-8DFD-C941670F2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AB7A-CF31-4449-80EE-099F65463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A7EB-D3AF-4E4D-963A-950874CB8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4FB4-DBA4-4BAB-A929-350A85FB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9DB5-FC5E-4EA6-9026-F7BFC77E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7DA0-5490-49F9-828F-22BA9245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7FF9-C88B-4489-83CD-E9FBE094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4151-7186-447E-B074-A5D619512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9C72-A24F-4677-BF5A-7BC16C123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4CF6B-292D-42CF-A485-0F3B08ABF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636BE-62BC-4B02-B181-DC3323A71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E0D97-8BA1-49E7-8E71-6791EA0A6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B5CDD-364A-4AD2-89E0-44260CAE2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B7CAC-FADF-4395-BB6E-FA955D46B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A6C54-55E7-471C-87E9-51D9C0E23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075D2-0B0A-4A09-9C02-11CDA1D8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9A00C-07B9-4526-B87F-2C2B9707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17BE6-6CBF-40DD-9F3D-46F938E9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F0F8C-22F3-41BE-B5D2-A3FBF132F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C0318-72D4-496E-86EB-F6CC4DA81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09A0D-EAFB-4E5E-BE26-1CB82214C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18081-841E-424F-88F5-3CB057DF8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E4E24-E600-4FFD-B484-7445218A7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5C01F-2F99-45BB-B205-60FEDE985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25BD0-5D82-41AE-A591-D5C6E54E2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826D4-8041-4AE1-9AAA-8964699B8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71C8E-8A72-4BA9-9465-9EE0558D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444EB-9C66-4158-AB80-39934DC6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34111-2C73-4265-A459-4BA7F8D6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125D8-8F7F-4D5E-BD73-14BCDC3F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DEE3B-3BFB-4BBC-B2D5-6BBDD4451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2BB14-E8E3-4707-BD27-FEABED38B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20835-25F8-48F6-A390-AB0E58132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1759B-F735-4031-A30B-CA0A33643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86EC8-D255-4D9C-8E38-3F8E40B1A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F6A0F-FC68-4215-9648-9AEE408B3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83BC5-1830-473E-8B5D-0DC71886F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0F115-82D1-4AB2-AF87-6FA0481AD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E600A-C349-4BFE-ABC0-684EB53BA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FF1D1-4BDC-4002-B3E4-B0D5EEEE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EA4D1-22A7-464C-8DE8-08CE7BE7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144EF-EAB3-46EA-B2C0-CCAD75A8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AE6F5-DF03-4AC2-839A-F825B7DC8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438D9-27D7-4593-AA2A-9CF17F3F9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03A4C-F823-4E1A-8241-DA9ABA69A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BCD36-FA24-47F5-9E3C-754693362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DBB36-FED7-4301-9D5A-E98267019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34F50-BF65-49DA-8CD3-BCC3393EC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71F91-7007-4FE9-8925-5B7181824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AD5B8-37ED-499A-B964-B95A2CB13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0471F-D002-4CF7-BD2A-C1CB90B80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538FB-3CBF-4C20-900C-EE53C376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43EA4-8A1D-4F09-B36B-642CB4B8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23AC6-8E7E-401F-8D1F-271A14B4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1341F-A7B4-49BF-90BB-C30F50AA1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8B903-10F1-4411-B251-3D7E41714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7E752-1CC3-4E09-8DD5-344916C64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83F23-6573-4D0B-8A98-9A9F4EABE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D185A-A34A-4809-9951-AC1F41176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21392-EE1F-48AF-A573-AEA036B04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53B59-CCAF-4C4A-8EB7-44742637E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89C54-F051-4FCF-9BEA-5FB5E6807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E7BEA-FE5E-42B9-A2AA-FE6D1E076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AC5789-46C8-4B0F-B5A0-311E3C7D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44372-22F2-4045-A4BD-E18DAB02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B53C9-AEF5-4EC0-B1E7-7D61F1A7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36B74-CB04-4FF1-95AA-FA740979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E5C4B-326B-4B78-A88C-A45B95088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1AD62-0E3C-4936-B464-1AE5AE7D2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78751-4998-451D-AB78-D67CEBAB6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78A2F9-3F87-4E7B-8785-887F9D65C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451A7-3ECB-42FF-91FF-32A136FA6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8B69B-E824-4CEC-A8E6-22F8D6303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4860B-E0A4-44C5-BCEB-4563A291E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5FBFA7-1FCE-456C-BDE2-C73874B1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955113-764A-48CF-9B4A-A0570324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EC7545-F929-43BD-847F-AE909533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96604C-9988-4D29-AD57-531E82FE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6970D2-A2F1-4DA7-872F-387218632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8196C-D46E-4938-95F8-01B2A71F1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D33697-E888-4E0F-B30C-A1C2CED15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81FE8C-DB7D-4051-84E6-3E0208B9F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FE8E46-7D67-4886-A300-135CF880F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7EEBBA-55D0-42AF-B70C-A09655AD8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Matematic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Imagine 6" descr="matematica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4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Matematic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Imagine 6" descr="matematica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57F54-E4AF-40BD-9083-196E93C8C3B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8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Matematic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Imagine 6" descr="matematica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85802-371B-45FF-B16E-A45C56BD1C4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2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Matematic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Imagine 6" descr="matematica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9D64E-124E-40FA-8B1A-0F3BA117B54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6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Matematic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Imagine 6" descr="matematica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99FE5-B535-4BB3-A4E9-6D8A95877C7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0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Matematic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Imagine 6" descr="matematica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7E18D-473E-4AD5-82FF-AB6E0D648BB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Matematic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Imagine 6" descr="matematica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E5B85-FEC3-476C-9CA4-B8A4C1099C4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Matematic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Imagine 6" descr="matematica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0E5E7-6743-46CE-8FAC-3251D40A1EC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Matematic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Imagine 6" descr="matematica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5DA7B-EFDE-46AB-86B3-AC4302BEB74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Matematic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Imagine 6" descr="matematica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C2957-D85C-4A5D-91D7-F77725DD1C0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Matematic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Imagine 6" descr="matematica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62BAB-8FF2-4126-BCF6-A2C971BD1A1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Matematic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Imagine 6" descr="matematica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B6911-C148-4A85-82F7-BBC12623771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6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Matematic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Imagine 6" descr="matematica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A7DBE-33D7-420A-A1F5-88567461BC9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0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Matematic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Imagine 6" descr="matematica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22ECD-9540-49AC-A94A-B6DC69E355E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4b49"/>
                </a:solidFill>
                <a:latin typeface="Georgia"/>
              </a:rPr>
              <a:t>Titlul prezent</a:t>
            </a:r>
            <a:r>
              <a:rPr b="0" lang="ro-RO" sz="4400" spc="-1" strike="noStrike">
                <a:solidFill>
                  <a:srgbClr val="4e4b49"/>
                </a:solidFill>
                <a:latin typeface="Georgia"/>
              </a:rPr>
              <a:t>ăr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Tipul evenimentului </a:t>
            </a: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                       </a:t>
            </a: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(alte informa</a:t>
            </a: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ţii opţiona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Conector drept 4"/>
          <p:cNvSpPr/>
          <p:nvPr/>
        </p:nvSpPr>
        <p:spPr>
          <a:xfrm>
            <a:off x="0" y="1447920"/>
            <a:ext cx="609588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Conector drept 6"/>
          <p:cNvSpPr/>
          <p:nvPr/>
        </p:nvSpPr>
        <p:spPr>
          <a:xfrm>
            <a:off x="6095880" y="1447920"/>
            <a:ext cx="304812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2057400" y="2666520"/>
            <a:ext cx="54864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4b49"/>
                </a:solidFill>
                <a:latin typeface="Georgia"/>
              </a:rPr>
              <a:t>Titlul sec</a:t>
            </a:r>
            <a:r>
              <a:rPr b="0" lang="ro-RO" sz="4400" spc="-1" strike="noStrike">
                <a:solidFill>
                  <a:srgbClr val="4e4b49"/>
                </a:solidFill>
                <a:latin typeface="Georgia"/>
              </a:rPr>
              <a:t>ţi</a:t>
            </a:r>
            <a:r>
              <a:rPr b="0" lang="en-US" sz="4400" spc="-1" strike="noStrike">
                <a:solidFill>
                  <a:srgbClr val="4e4b49"/>
                </a:solidFill>
                <a:latin typeface="Georgia"/>
              </a:rPr>
              <a:t>un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Conector drept 4"/>
          <p:cNvSpPr/>
          <p:nvPr/>
        </p:nvSpPr>
        <p:spPr>
          <a:xfrm>
            <a:off x="0" y="1066680"/>
            <a:ext cx="426708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title"/>
          </p:nvPr>
        </p:nvSpPr>
        <p:spPr>
          <a:xfrm>
            <a:off x="38052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Titlul prezent</a:t>
            </a: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ării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Conector drept 6"/>
          <p:cNvSpPr/>
          <p:nvPr/>
        </p:nvSpPr>
        <p:spPr>
          <a:xfrm>
            <a:off x="4267080" y="1066680"/>
            <a:ext cx="487692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49528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Introduce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ţi t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ext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Conector drept 4"/>
          <p:cNvSpPr/>
          <p:nvPr/>
        </p:nvSpPr>
        <p:spPr>
          <a:xfrm>
            <a:off x="0" y="1066680"/>
            <a:ext cx="434340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Titlul secţiun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Conector drept 6"/>
          <p:cNvSpPr/>
          <p:nvPr/>
        </p:nvSpPr>
        <p:spPr>
          <a:xfrm>
            <a:off x="4343400" y="1066680"/>
            <a:ext cx="480060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49528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Introduce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ţi t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ext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Conector drept 4"/>
          <p:cNvSpPr/>
          <p:nvPr/>
        </p:nvSpPr>
        <p:spPr>
          <a:xfrm>
            <a:off x="0" y="1066680"/>
            <a:ext cx="434340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Titlul secţiun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5" name="Imagine 13" descr="blank page.png"/>
          <p:cNvPicPr/>
          <p:nvPr/>
        </p:nvPicPr>
        <p:blipFill>
          <a:blip r:embed="rId1"/>
          <a:stretch/>
        </p:blipFill>
        <p:spPr>
          <a:xfrm>
            <a:off x="5462640" y="1427040"/>
            <a:ext cx="2998800" cy="3473640"/>
          </a:xfrm>
          <a:prstGeom prst="rect">
            <a:avLst/>
          </a:prstGeom>
          <a:ln w="0">
            <a:noFill/>
          </a:ln>
        </p:spPr>
      </p:pic>
      <p:sp>
        <p:nvSpPr>
          <p:cNvPr id="636" name="CasetăText 11"/>
          <p:cNvSpPr/>
          <p:nvPr/>
        </p:nvSpPr>
        <p:spPr>
          <a:xfrm>
            <a:off x="5821200" y="27828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ima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Conector drept 6"/>
          <p:cNvSpPr/>
          <p:nvPr/>
        </p:nvSpPr>
        <p:spPr>
          <a:xfrm>
            <a:off x="4343400" y="1066680"/>
            <a:ext cx="480060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Conector drept 4"/>
          <p:cNvSpPr/>
          <p:nvPr/>
        </p:nvSpPr>
        <p:spPr>
          <a:xfrm>
            <a:off x="0" y="1066680"/>
            <a:ext cx="434340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Denumire imag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Conector drept 6"/>
          <p:cNvSpPr/>
          <p:nvPr/>
        </p:nvSpPr>
        <p:spPr>
          <a:xfrm>
            <a:off x="4343400" y="1066680"/>
            <a:ext cx="480060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Imagine 8" descr="blank page lata.gif"/>
          <p:cNvPicPr/>
          <p:nvPr/>
        </p:nvPicPr>
        <p:blipFill>
          <a:blip r:embed="rId1"/>
          <a:stretch/>
        </p:blipFill>
        <p:spPr>
          <a:xfrm>
            <a:off x="1109520" y="1219320"/>
            <a:ext cx="6864480" cy="4041720"/>
          </a:xfrm>
          <a:prstGeom prst="rect">
            <a:avLst/>
          </a:prstGeom>
          <a:ln w="0">
            <a:noFill/>
          </a:ln>
        </p:spPr>
      </p:pic>
      <p:sp>
        <p:nvSpPr>
          <p:cNvPr id="642" name="CasetăText 6"/>
          <p:cNvSpPr/>
          <p:nvPr/>
        </p:nvSpPr>
        <p:spPr>
          <a:xfrm>
            <a:off x="1905120" y="274320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4e4b49"/>
                </a:solidFill>
                <a:latin typeface="Georgia"/>
              </a:rPr>
              <a:t>Introduceţi </a:t>
            </a:r>
            <a:r>
              <a:rPr b="0" lang="en-US" sz="2800" spc="-1" strike="noStrike">
                <a:solidFill>
                  <a:srgbClr val="4e4b49"/>
                </a:solidFill>
                <a:latin typeface="Georgia"/>
              </a:rPr>
              <a:t>ima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1295280" y="5029200"/>
            <a:ext cx="64771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Georgia"/>
              </a:rPr>
              <a:t>Sursa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08:57:38Z</dcterms:created>
  <dc:creator>User</dc:creator>
  <dc:description/>
  <dc:language>en-US</dc:language>
  <cp:lastModifiedBy>User</cp:lastModifiedBy>
  <dcterms:modified xsi:type="dcterms:W3CDTF">2010-02-04T12:26:48Z</dcterms:modified>
  <cp:revision>53</cp:revision>
  <dc:subject/>
  <dc:title>Diapozitivul 1</dc:title>
</cp:coreProperties>
</file>