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02A4-7266-43A1-94C9-59403061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90BC-D884-4574-B5F1-AD684010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5CB39-18BB-433B-B327-7D508163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C7D32-16E8-4CD0-A025-DCA6D031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1C6AE-04A1-49ED-8038-C7E9B7CC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B8E1-2218-4802-8264-84C720E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493BA-6492-4370-9833-38C27AF1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C9FEC-6305-4D81-9A94-9F19DB7D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C259E-49E5-4565-AB4B-926DCB9F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983A1-A7DD-46A2-9E48-3DF6EE95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ECFB1-C68E-4F04-80CD-ECC681F0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4D617-5AAA-4ABD-89C0-DB287AE0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D28BF-B809-43F5-8ECA-81D73550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431DD-AC98-419D-921B-78AC4DA9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3B474-9EDD-46D5-A956-1BB1C5A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5F2D6-502A-4B81-8DA9-E18D0539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7C29A-250E-471D-B73F-7F52A2C6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D87FA-FCF2-459C-AC5F-9E8D9A70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B91A6-B0EC-4080-B186-FB6B8DF3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79F18-CC7E-44CB-B92D-29300B2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22EA5-A136-4326-A4CD-C56609CE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DDC11-5848-493F-AF36-445AAE16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87B10-5CCD-455A-BB96-EC4D518F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71859-9E88-4A9E-A5B0-9B66F03B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0F425-FEE9-4D2E-BF9C-5A4E0913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B3E8B-86C1-4CFC-B2C1-4BE0CB93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52DE7-6434-4F39-B040-4C7B52F6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D0D99-DD5D-4F18-B1CA-B88ACB5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D4039-7470-4BCC-8AB5-F620B578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942D4-CC4D-4ECE-87DA-DAE5BB9F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60255-2355-42C3-AD69-AD4548D6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49E52-38E8-47FD-ADFE-A63B3BC3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5FE-2543-4355-A5B8-B512DAD9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5B3C8-8FDC-4A2F-A7AF-E8B6F6E2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72103-2916-4896-9E39-BCE9C82C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659F6-B53F-4555-936E-2DD5B634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2042-5704-410F-ADDE-D8D2790A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E76D1-E8A4-4981-A44E-84300B7F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18D4-2D06-44C9-A631-D7498DB8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CA166-56F7-468D-BDBF-56AA55B2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C91D9-D3EF-410B-8A67-4C4D8B5D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23E54-5A26-4FF2-B18B-20689EDE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158A9-AB0D-4218-BEAE-387AFB04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9CC-75CF-475A-A95F-8E8B4956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20F8A-0F6A-4E0E-BB07-46FC965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0BF72-CF7A-445B-BAAF-08BBC4B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EA071-0031-4DBE-8704-399F0E41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BB269-9B6B-408C-BBDD-90890E38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70252-B955-4829-904D-DBCD2F48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56552-3101-4E96-B1B4-D0A66DD8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5C806-6453-44B0-9E65-F75D28A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3BC1D-AA7C-4C5B-8F83-36A373B9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0CB8F-3767-4690-99B0-BAD5A591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F1BF9-8125-489E-ADE4-E245AB82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CD7-2A36-4061-AAB6-A91DCC71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590CC-89D8-4804-9627-EC5FC477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3F25D-DDFC-490A-B552-986A365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0DDD8-62FD-4FAA-9569-55C06DE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93830-EE32-4AFE-95C9-A0E6E430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1D5EC-9174-4970-8789-E18DC8A5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E1130-CD89-428E-95CC-AE2408E6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A56FD-21BD-42D2-89C0-1FC22044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FF325-E812-4E2D-86CA-A32D087E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556E2-6252-49EE-B6B4-573FF023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6D6BE-DC67-4A81-A777-217CF971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0F0-E540-4BB1-9562-07EBDCFC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E11F3-2744-4DC1-A734-0F3E2D7B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77253-F067-4D6D-B4B8-81226D76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875A1-E3D5-4020-B3C6-70A74CDD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D72B7-C88A-45C0-B9BF-F2F4D037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F2CF3-1EEC-4701-B7D7-7B32F516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6AE9F-980D-40F0-9C4B-73625BD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6966A-1F08-496F-8C57-A709F945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31900-0EB2-4AE9-9ADE-D24C6715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8F829-5CE5-481E-A9E9-0B494890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FA4-C20E-4765-8E40-9A818859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D30-7C22-44DC-AA90-428180B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496-2E11-442B-A4C7-CB6DDBA1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83A-7D9B-4976-A79A-EBA23BB3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11A-B801-49E0-9FE3-4ED2250E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B3B-624F-4595-8769-787917CC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ADF-CA6C-499F-AD7B-02502138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DDC-11F3-4ED1-B397-69F34136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0115-7C46-4D68-A7DF-E183E7A9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9FE7-025C-4FD7-90DD-EB2CCF75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C76A-14E3-44D5-88DF-DCC4AA72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7AAA-F6ED-4597-BB21-940FBA27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9D26-D978-4E26-8780-E4D9A8D3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6C13-910C-47DB-B8E7-496AF35E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C40C-ACEF-41FB-9AC9-65BD659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8E0F-452F-4684-B736-A5DF7FC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2D7A-7C6F-46B1-8CEB-423D5765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179E-F480-489A-B761-085AF488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BF84-B326-4BC6-BC8A-218DD472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34DC-9DF5-4F44-BCA7-90BD2F93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5780-0AC5-4CBB-8847-401A336B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60D1-AA07-4646-B62A-125CA0E9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F649-6C29-45F1-B32F-18B947D1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E55F-718F-450A-9433-FFB80DED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9415-060C-463D-BEEC-C76C7726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9242-B979-4BB1-89A4-4E6F4228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A399-8604-4623-97D6-DE62426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CE76-1E3D-4E05-8CF6-9E00001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4770-6AC0-42A6-BCB6-8D5FBA7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C651-BD4C-46AC-B65B-496729C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E82D-B940-401F-A8FF-E4ECF000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E3A4-25B3-4673-A8D7-EA64293A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5646-7D23-4DBC-BF78-3C0CEC4D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9874-C0EE-467B-BF8D-21556B8F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351E-9B4C-4E20-B861-6B2EE558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5FA5-2553-4A6C-AC33-FA94B67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E19B-B92C-498B-B372-2C7E1AB1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02F4-17B7-4A1C-9F0E-3BE7B2F5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4CB3-BCBD-4D4F-B735-2293197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48B68-EBCF-4EC6-8407-5C97071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7022-EA5D-4549-8EC2-59646521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8F0A-DBC2-443D-9804-6FBFD67F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ADED-58CC-4E7E-B09A-E7A659AB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0C46-FAA5-4189-86A0-433E7399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A016A-A656-4A5F-A010-05166287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EA91-4D07-4C10-A8B4-F2BA172E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C433-3D09-4B2F-85F6-A1A681E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EA77-589D-46EC-A961-B9AB8ACD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C5FC-3461-4E7E-B197-F32F2E94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6DD6F-6F30-414D-9831-D83FD31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B04FC-6203-436E-842B-60B75D5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7C01-DC64-4541-9604-DC0AA9E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3EB9-1EE8-47F3-B250-DF7761BF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E203-F6BD-40C6-86FB-709ED3B6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40A6-11E9-46AA-9370-1E572FB3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E7449-7EFD-454C-85E8-4BCC6B7B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453F5-6DF6-4AFF-A636-98353D8B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D789-5A5E-4E23-9684-30CBA2E9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5D49E-BFDC-4A35-A8FE-3231FB73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A320-A0D3-4E1C-9C0A-B127DA05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6FD52-A6CF-499C-BB9C-86809584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0DAF5-D5AC-4224-97C4-6741A8ED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48606-77BD-4625-BDE9-877FFC00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253D9-7DBD-4A78-9385-89FB054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EAF4-047B-4871-BD76-A87B81A4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1BF29-DE6B-4886-BC97-37575713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83E67-05A3-45EE-8CD0-D2825AAB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98D8E-8722-441F-9978-26F1FF82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66C45-E5E1-4DAF-8BE1-68E4AE17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48445-0841-4D74-B968-84DF3E3E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2632-7F30-45AB-8A9D-B95DA058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B9BCA-6FBC-41C5-8D99-1AE0823F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2A1A6-4EF6-4A05-AE09-8E00181D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27B7-08FD-48B5-B42D-43CDE1FE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CCF6E-F587-4648-885F-645AC35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FDE61-B9F9-4736-85D6-6D20C1D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1DDD9-606A-4D1E-8948-DC8FC184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2E31-D765-43D2-A5A5-754C8B4A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7C7E-B022-4C97-BB24-16A62E95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61280-1832-47BB-BBF0-8198A219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BFDC4-B763-4AC3-883B-91F88000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7386E-B6BB-432F-ADAB-F04CF7A3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D162-E600-4215-981E-AE762776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0D7A-9222-456D-BC5C-356B25C66B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858-6815-4F70-A342-F961D897D0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F6B-0E1A-444E-8F40-CE6D108E12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4174-F0CC-4A99-A1A8-A92D677EB2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259A-9B36-4400-BB46-0527FEF949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6863-0C4F-4733-BB34-13AA407EA1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27A7-D8F1-4DCB-8F21-C0AB419130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8F7F-2F96-4305-A6C7-45B42CEB75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9216-6808-44EB-BF49-17FD7AFFBD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CF97-245A-433C-B778-B446BF6541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9EDB-0CDB-4B6D-BCCE-A7D997CC78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6771-F04D-4F5D-94BC-DC51EE10F1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Psih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Ştiinţe ale Educaţi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psiholog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68360" cy="512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AA61-CE2F-46F7-BC88-B31B9078BA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33:27Z</dcterms:modified>
  <cp:revision>52</cp:revision>
  <dc:subject/>
  <dc:title>Diapozitivul 1</dc:title>
</cp:coreProperties>
</file>