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C98C-25A4-4F14-8A25-8573D484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87E8-40B7-4981-B4DA-2A329F02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02186-7DAB-4946-9DBA-B24A42C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AB48-28ED-43CA-B5F0-985B84F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E0DFD-E381-4E64-8DBC-92DB6F12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1AF44-3DB5-42E8-BEE3-9A27C577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57BE-6F98-494E-A702-B984099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13026-515B-4DA2-A6BA-84EDFEA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C9D96-3030-4069-967A-2947709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981B9-72D4-476E-8D45-8DB6B214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3B26D-EB6B-4A59-828D-3CFDF08C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1B911-08C1-4503-AA1B-3D089986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9A9BB-6ECC-4EA8-872D-2BD46B7F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6BA5F-0BF2-4339-85E7-2A9DF8D0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0E972-2C2E-4FF0-8D18-8E5B4769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D0DD1-E14A-4836-9058-8B90C217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D48A7-6732-4BF4-9BB4-63DAABD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AAE4C-924C-4EB3-AEF4-12F0838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4F5E4-BF64-45E0-8AC3-C3DBEB8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ED9F2-3DD4-4F9A-8837-2503B07C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C299F-6718-42AF-BE8B-3AFAD386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A1D73-78E2-4CB7-8DFE-5D1C49F1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6F6E3-8253-4E28-9AED-E3CDABF7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69B72-D583-4C27-ABF0-59DFD55A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C86C8-C65E-4FD7-BFC8-24718906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05B65-8ABC-477C-BD7A-D45FF03C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A417B-7D81-4EB8-B6D2-339739B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2647E-9962-4574-97F3-738B1A77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B173-C3C7-4848-97D8-14658C10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2593F-DFEF-4521-9596-695E58B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00F24-0005-49B0-9D8F-FB2B0FE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9BC9B-8862-4531-BBF4-FF12D5D0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8AF-3F1E-42CA-8956-F6CDF2E4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2D424-EFCA-41F1-B27B-EDE670CA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5CF58-19CF-4D70-B0D7-C327791E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C9130-DB92-45CC-B143-D93DCBBE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5616C-619F-4889-A837-095DA102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FAC9D-118A-4F26-A3FA-C02EB5E6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BEAEF-22F3-4616-8974-7DC01B77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EE631-215E-44C6-88DB-063633DC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1D0E3-9D30-468D-9DE1-3BBDB76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C9EA7-BDBB-46FE-9809-BBCDFF11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C71B-0E35-4C82-98BC-43C46BA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3C5-3EDA-4638-8211-1316C3E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650F5-A97E-4C69-B620-5CD5086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4F84F-1812-414B-BCB7-C1C9064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7721-5DE8-4A3F-8D8E-7EC89AAB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015AE-A667-46A9-8A22-52ADF757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6DEC7-6ED4-4838-8B8B-6595D12F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6B915-B887-4AB0-B94F-14E4C1D7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A024-873C-4366-AF6C-65D84FB4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51667-6988-4EC3-AC32-7B00C5D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44B32-19C1-4FCB-B564-725D7686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E3D71-87DF-46F9-A7E6-554277B2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89D-38F6-440E-B92A-462D98B3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BF746-9D63-4B66-92B7-2ADF05DD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79FAD-57A3-4483-B825-4B6B4E9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EDC38-8745-44D0-97D2-65B023C0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5267B-F202-4F9D-AA7A-4DB0C3B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A27E3-BBD8-4FCB-8B59-A3914BD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BC1AF-3D95-489A-A1BE-241BA697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3AB2D-DE99-4870-B101-7D249C10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170B6-BF67-45E1-B024-15C88111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FB041-B8AC-4985-87BE-EF6C13ED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979EA-D0BE-43D4-B3E1-A2AB013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623-9D25-4175-ADE9-775E9BA5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56694-D377-4CDE-8465-FBD03260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FEF57-1293-4AA9-AD55-FC169E3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4CE83-CC30-47C1-8F3E-137C2BE4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A828B-8378-4A08-A3EB-AB9CF5A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91B9F-511A-468D-A18C-8801CEA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90CCB-9629-4BC9-BC9B-919658A8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40B97-4CAC-47DC-BC17-D49564D5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E2169-777D-407F-A39C-4411831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9D704-C5F9-4C85-A463-01702ACA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54C-AAC4-4AEA-AD3D-0319AC0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73C-B1C4-447F-8469-F9F97AA7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02D-3867-45D9-91CD-F12FCCD3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C0D-E136-49AE-9FF7-7B6CE746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67F-28CF-48EB-B971-90AF434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ECF-7643-4C33-89A7-FAFC17D4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8F3-28C8-457B-933C-4F907F33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108-11D4-43AE-BC19-C912C7A9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9BB3-2FCC-4BD1-9723-C432C6A0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2B09-7077-457A-9E78-6B165D7D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8D1-9783-4EBA-ABE9-5889B939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1CA2-8B01-4E0C-9E36-C38EF3F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EC89-4F2C-4790-87CD-FB71C9BB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54F5-82E9-4958-A578-CC0535CC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CC8-1095-473F-ACE6-5276C157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CE85-B9C1-4BB4-AC15-20ACB04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AF04-2438-4E15-AE62-BCA7890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2779-90C2-451C-A38F-A66F0DE4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F299-D454-4AFB-82C7-A7C9C430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254-CA73-4F54-A4DB-DDEE2F6C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6CDF-FC2E-4758-BDA6-3694E936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94EF-0150-4DDB-8049-799CAF1A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7F61-1D2C-40CB-AB9C-93220C06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92D1-3DE0-40CC-9C34-42966EE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9F0B-23F6-4C5C-9C3C-492DA8C1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0554-7770-472B-B26D-BAD2171C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5258-4F72-4BED-8908-A2FD13F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E972-B0A4-4710-AAC4-14ACB614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BEA6-D664-4DFA-BF91-C11F8DBB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DEA4-74AA-4024-9994-48AD17FE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4B70-5E0A-49D4-883F-97F3E00B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D786-F21F-48C0-8681-7A9F8E65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926D-915D-4D7C-A64E-70A6E11D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C802-4BCA-477C-B2E8-09A2B0E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285D-AB06-4C28-BED0-82615118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1849-CC96-478C-8DFE-0734234D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A40C-3C71-4F84-96F9-8BDF9A41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A5BD-2955-440C-B80C-79D0309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ACDB-ED9C-4055-B9FE-4B43CA5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7F79-9FDF-4A83-AF00-78B44FAD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9844-53BE-45F1-92DA-A28CA25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02E7-991C-4847-8544-110F8464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4AAF-6E4E-4340-9A1A-8FF25311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EC8E-6ACB-4E8A-9122-7A29036A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D838-6E31-495B-B7DC-FF645AEE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BDAA-D8BF-43B6-91CA-2E220A60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C1CE-A74F-4D09-B288-92630902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1565F-FA62-4E8B-94B7-82261E89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2461-A824-4BE6-ACBB-99CADB19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437EE-8B46-4AA1-9E50-8476525F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0E5A-2530-4001-A057-C167FC17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0B7C-EA13-4092-A990-2E5D7E6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97DF1-9162-4C92-999E-49B55A4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6CD2-DCC7-4E30-A5CD-6761844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A7E3F-8178-47F6-95AB-CEC5A9C2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8A8D3-BE33-48FC-A38C-8231DC96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B000-06C6-4930-9916-22EB1981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6780B-F5DA-4981-B1BF-7EF4801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AF5A9-42D3-4472-B6FF-7BFF1106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BF98-C63B-4A8B-90C4-96A18EC3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5C24E-0D9E-4A74-9959-182E7347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3C9BE-6B76-4FB9-B0F2-79D7528A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7ACF-B918-47BF-8199-C339229D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6507B-0650-4F1B-B20B-778B8AA3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8BD65-5EF1-45B8-8435-1706BD5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1A19-5192-4F95-88F3-92374A56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B92E-3525-4999-8F40-D9A8EFA4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B855-3717-4A90-8779-553024C4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4FD1-9728-46AA-BBA4-F0145030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0DBFF-8E26-4C7E-8263-111E26A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A9181-6DF3-4B30-88C2-83F8395D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92378-2692-488F-93E3-D9B1E68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23B1-3381-499E-A01E-00B8FB07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0FEA-129D-4572-B048-03D738B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449E2-5350-4E52-8A30-4D13ABA0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866AA-7CA8-45B3-8651-FE5F97E2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4D018-07D2-4149-9199-534011AC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34C7-CB01-49F2-AEBD-21E5203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CAF44-7A21-422A-A8F4-7D2C7EDC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1D43-46E9-4793-A304-F86F4B56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C5E3A-CBC6-4D90-B345-16C0E1B8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74588-3683-4904-8DB2-21F53F16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EDD21-31BD-49A7-84AE-937131D7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3740-1244-4F5B-9B0E-A49ED22470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F72-1040-4E20-801C-ECB099B526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A104-09B6-47E8-8E15-0E27F2E908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9FFE-78A8-42BA-A4D7-7256E4BB35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B0D-1448-4279-B947-769D3CD957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C9C7-CFE3-44C7-8735-A66CAFE87C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85EC-AE36-4EBE-9D53-A12C7111FC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D6CA-E077-45E4-9146-239DC84098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1B15-63B7-4E0C-8531-F4BCECC5BC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76C9-A838-4B74-97B1-C41D57CEEC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D6F5-DB6D-4CA6-863D-5E07706CD6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96DE-0F7C-454A-A177-1838F370E7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Teologie Ortodox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teologie_ortodox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AE67-A92C-49AA-845E-2C0B7F0AC7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49:05Z</dcterms:modified>
  <cp:revision>53</cp:revision>
  <dc:subject/>
  <dc:title>Diapozitivul 1</dc:title>
</cp:coreProperties>
</file>