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6E00-72CF-4FE1-9FA5-C159F7C59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7239-C50D-4F7A-AB03-F6189F229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E2A48-6AC2-404D-972B-37C8E214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3D147-BB7A-4786-83FF-BE0330EB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2F740-77EF-4451-8402-287C4C00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037C4-2E1C-498D-9A6F-B5B63319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D8FE4-1529-46D2-8B4D-B17FC1F0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83E77-74F5-44BE-B9EF-16D8FDA4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B23B9-7555-4283-8DCE-1BFC1ADE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75F4D-D858-4DF0-9755-A09C9891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750F9-FBDC-41F6-8DFF-DDAC0395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E3A82-105F-49D3-A054-56945A7B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E19F7-98A6-46C0-93E7-57C70D1C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6488F-136D-477A-8F70-1438A690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81D65-97F2-48CC-8E42-672EC6CB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A627B-AE3F-4EC6-8F57-2AD3890D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286E5-180B-4A12-AA0E-324112C0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EA4A1-F067-4665-803F-BE7003AB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7383E-919A-43F1-A2BC-DB104C8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A6A00-8A9E-4512-9DCB-E58CD645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DB53A-F173-4E51-B56F-33233842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0FD0C-5BC2-4014-A9E5-0C053A58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D3487-BC4C-4D7A-98D8-C4009A2E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C4A29-E3B2-448F-9468-136117D3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2A572-5610-421E-8FF6-BE5F9A6F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EC18C-CE71-49EB-A960-0A4059E9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C77FC-F275-4ABD-9815-7A3849CC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98078-496D-41A1-AB02-704B6888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54887-7872-47E9-A689-99D1313C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D4B13-F9CB-4FAE-9568-5F6C2393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539AC-41D6-4DFA-906A-686DBFF3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61376-337D-43CE-84EF-F4EFF2C5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C8C-B13E-47CB-93E9-2BAAC78B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05E33-A8A3-4AE3-AFAB-F3F36F28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49889-E8E2-43DD-B9A5-5E1A07BE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AE2BB-6558-4A69-8515-078B874F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B0259-2E7D-44D6-AA96-9B0BF0D4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28328-7A27-4187-B3ED-F1959185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95507-4BD8-4E1E-89D1-B8709A3F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D23CA-1EEE-47E7-B3BE-E7FDF1B0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8CB7C-B72D-41E8-AC45-D78EE959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466DA-B486-486C-A0F6-2089D795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15345-7DAF-4F8F-9117-1FE55489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9BC-ABB8-4394-8ED0-E8ABB6A7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F85FF-D620-41E0-812D-7D7BB983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20BB3-E917-4747-8854-BBF19F39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BCD2E-7E51-4AB0-8AD1-2BB5F255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57012-FFDE-4279-A691-16FB5021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67195-35DB-4102-BF3A-F3104E90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73AF8-112C-4191-9835-54D53DD0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BC013-F99B-4436-A600-A7416D36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09C0A-96BB-4554-B3AC-67E90D9F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E48FC-1DAA-4D1A-9ACE-11669ADA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590C5-E53F-46B8-AAC6-C08DFB90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3CB-3027-4475-9D6C-26001A10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7CEB9-673E-42DC-A284-61051B90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84092-0B51-4FB3-BA0E-BFF25337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9E384-EE36-4DB3-B4F7-D86869CA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7519D-5AF1-48C9-8165-DA5D1132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FFB9E-24BF-43A7-AF09-5A1D680D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D33E4-A1FA-4AA0-819B-B6BA2BA8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0A313-F088-4317-AFD7-B8DBCB41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915C5-75C8-4350-9E8D-292DEDEE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ADBD5-B5DE-49F8-864A-F6584B78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F4AC3-EB77-497E-9C07-06952497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CEC-73CC-4EFE-A77A-099A0B31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23B8F-FC54-463D-B12A-0B4552E8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922E9-E4BB-4FCC-B964-075CD0D1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55227-2FF5-4723-887C-F7EBD38C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FCF04-BA3F-40F0-A503-EF3F612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5E451-5F86-4A69-930D-3AEA1B8A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8B3D1-5000-4D37-923C-E96EF7A6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D4B7D-708B-4177-A9A4-4B9BA249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782AB-FFDF-47A9-BF23-0D81820E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B79D5-489D-4540-9706-93D7C34A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E82-CC44-4232-8168-A17CD95A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E26-584D-49D7-9E06-E8FE3D06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0A0-4F74-4E7B-A1D0-21FF3C81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EE8-432F-4DFE-996C-E50184BF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DD6-FCFE-458D-AAE1-575F407D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B7A-176E-4C36-A6FB-B88C445B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622-0086-4D10-A31A-2FAB2695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9BA-68B3-4A0F-9D16-84099971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93ED-D6F0-4220-8920-A4BF5843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8596-04E7-4EBF-BF04-A5F2BE2B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2978-E185-4356-8133-00458544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0E7B-BEDD-4B54-8DB2-7447DA1B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B995-CC26-4903-A8A5-243D6F38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DC81-01E3-4482-9CBF-EF3C0BA5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14E4-675A-4C60-83C1-E00DDD63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8F64-FD82-421D-84DD-F0CD16EA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6179-4262-4438-8F7E-6060180F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B80E-49AD-4E58-AD35-F9F487B4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2BF5-37E5-4426-A986-C7FFD25D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5662-3C40-4248-A8D6-94BABC18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D389-7C4D-4F26-8D3B-D8DDF220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245C-D6E9-4BF5-A612-20756AB3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3E03-F0EE-488F-84FC-DE295B3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3A37D-ECB4-43DB-A24E-9BB2E0E3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4EC5E-E26C-4B81-8DDF-98EDE7E9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EBCF-8DA8-4587-84DE-22B1EAAE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88A0-C875-4EF7-A960-8CBC2732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FF81-2EA9-42BF-9B0D-A85C1A16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C7358-E6B0-4C3A-898B-2916FD7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8833-4BFD-49FB-BCC5-EAB66AC0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89D5-5109-441F-8077-CBDFC498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09EF5-6B2C-4214-8D59-A6D4C0F8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E5154-F937-4EF9-B4DC-21744E16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0D5CD-05FD-482F-98E6-E70F0CBE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71CF2-0073-46D8-9A9B-56E32F96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91286-1305-425A-AC28-4DDAFD56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5D0CE-EAC2-4985-9FE1-78CB9BB0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4BD1-BDFD-40FF-B4FA-CD9EE978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B93A-622F-4B12-9CAA-F2FDF80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2108-D80D-4718-8490-D79064CE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00F25-19A3-4B38-8B37-5277C938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3529-5A41-46DB-9D55-DAF5F55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1D32E-B565-4351-AE3F-85560887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B1B0-C43C-4B47-A584-9EA2A8E4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8B850-66E6-48C7-BD3C-F4CE4FA5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C979-D67F-43CF-B6E5-BC1E2B5F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49BBB-67D3-46A8-B1DA-5450DF7B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E04A0-6AFC-452C-92EF-2D5BEE6D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2B073-80E2-49E6-9191-6F7517FB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242FC-482B-42CE-B26E-0A376314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0987B-5593-4C82-9CCE-58BEACEA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576AF-A4F0-4FE2-82E6-14AE3E54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E506-0425-4FCC-A3E1-18AF8BB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C6F16-91E6-4F88-92E1-A9356522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81601-E079-45E9-96EC-7AFE71B6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7F142-55F7-4FF5-8BEC-0B650A5F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CC6B5-E5AC-49FF-AC38-339C3BBA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C8DC8-F8C8-4843-BA46-57109244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1C0B3-0161-4FBD-9A75-ECF3032F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6096A-F45A-43B0-AD69-DDD450E5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38B04-A4E3-4EF3-958B-F16BA587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1B1B6-2A99-4947-A98E-E0827C2B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72346-5526-4C02-BCCF-861ED115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8D0DC-A23D-46C0-943A-C8EED1A5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D994D-9077-4573-9EBA-3735C27F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E7704-B5E2-4CB7-B604-1833CEA1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DC597-1D8D-4BD4-8DA9-82F6D779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E3774-93FB-4633-95A4-3E66CFF0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8E674-B3C3-4E4C-9EA6-34CEFCF3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148F9-713D-46CF-8934-F67B77A5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D3E57-A5E6-42EC-9552-737F0CE2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D22EE-ACCD-4585-82A6-41EF7727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35263-0D3F-4AE3-A039-47011A7B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E7FBC-2F8F-4445-A28C-3D2EB45F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82775-271A-4904-AA1A-351692F9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56839-BB7C-478F-87D5-747BC9E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C101D-D57C-4C51-A9B3-C7ACA051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E7405-C0A6-48F3-9132-9A938C6F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E7538-2285-44E5-9A06-71DF3016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8BDA4-586B-4C81-AF2F-9AD0C8A7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11EE9-E8AB-4D31-8CE7-CD719B19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C9D94-003C-40E4-8582-24EA878E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683C3-428E-43F7-8CF6-F37D234D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71D5-A6AA-4FE5-ADF6-E0AAE35685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89D4-D070-40F1-B63F-3E00881A37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BA88-5712-402A-B21C-3FAC26D9D7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2E7A-91EF-4AC4-A654-BB2B46C543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1694-4B03-4E05-A7F3-35EE2CC1A8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D598-F0D2-49C7-A091-86B3073159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C9A8-FCB3-4D61-A812-053B5F4427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06D1-18CF-4792-8766-8EDABD3CE8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B0F7-C41E-4DAD-9E49-4C8DA78811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6632-08B4-4FB4-9744-C6F6C5D69E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EAF4-C853-4E8F-82EA-73D5DCA2D7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5CD3-5122-4E2C-A8C3-5B923E1BB4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953-3C65-40E3-B896-AD18A52C6A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51:10Z</dcterms:modified>
  <cp:revision>54</cp:revision>
  <dc:subject/>
  <dc:title>Diapozitivul 1</dc:title>
</cp:coreProperties>
</file>